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BB1B-855A-4A33-9D60-9332AFB6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65CE-99A8-423A-8BE7-AE0A26B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A7D8-6422-4900-A27C-AF5DA662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611C-BC32-4BBB-9AFB-46FA3463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0051-8359-4125-9C4C-53DC6F42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4815-7479-4174-BF61-B0C7498F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CBD6-0B99-4DE1-B273-6ADF9E2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AC04-4591-4701-A856-8A62015F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5F54-433C-4AF0-B29F-6208087B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45FA-A738-42FA-ADB9-5089CAF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F767-BBCA-43B5-9BDA-5D54EF6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69AF-BFA4-4244-8A0D-1A645F57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F8AC-C806-4E7C-9947-55E242F6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080F-A49A-49BD-A42A-F18EA5D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C1C8-9789-47D3-89E3-31CEF6D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31AC-B995-42B0-AF41-3F577B56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9359-235B-47D2-9290-0142C70A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30F4-1232-40B6-AF19-5AB5F8F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9333-43D9-4CB1-AA3F-9667221C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2331-6EFC-4809-B0E0-2537071D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E8AB-6462-4380-BD9F-0200DE96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0ACF-0259-4915-80D7-C695E7F9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12A2-038F-4F94-BA78-2CFAF839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788B-0346-4CC6-9566-913D2AD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170-FE6C-40D2-859A-CAB31BE35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987-7942-4601-8DDD-61A734E63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8001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mology Modeling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via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rotein Thread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isten Hu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E 697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 in Computational Bi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 19,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arget sequence is threaded through the backbone structure of a collection of template proteins (fold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measure of how well the sequence fits the 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ssum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 structures of proteins have characteristics that are semi-quantitatively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the physical-chemical properties of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ypes of interactions allowed within f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 Recognitio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wie,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 and Eisenberg  (19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pproaches to recogni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 a 1-D profile for each structure in the fold library and align the target sequence to these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mino acids  based on core or external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second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ull 3-D structure of the protein temp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as a set of inter-atomic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-Hard (if include interactions of multiple resid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d threading implies that one drags the sequence (ACDEFG...) step by step through each location on each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3581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4876920"/>
            <a:ext cx="38088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76920"/>
            <a:ext cx="38124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1066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1828800" y="487692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87692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40" idx="1"/>
          </p:cNvCxnSpPr>
          <p:nvPr/>
        </p:nvCxnSpPr>
        <p:spPr>
          <a:xfrm>
            <a:off x="2209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971800" y="487692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87692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3" idx="1"/>
          </p:cNvCxnSpPr>
          <p:nvPr/>
        </p:nvCxnSpPr>
        <p:spPr>
          <a:xfrm>
            <a:off x="3352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487692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487692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3"/>
            <a:endCxn id="146" idx="1"/>
          </p:cNvCxnSpPr>
          <p:nvPr/>
        </p:nvCxnSpPr>
        <p:spPr>
          <a:xfrm>
            <a:off x="4495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5257800" y="487692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487692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3"/>
            <a:endCxn id="149" idx="1"/>
          </p:cNvCxnSpPr>
          <p:nvPr/>
        </p:nvCxnSpPr>
        <p:spPr>
          <a:xfrm>
            <a:off x="5638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400800" y="487692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4876920"/>
            <a:ext cx="38124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2" idx="1"/>
          </p:cNvCxnSpPr>
          <p:nvPr/>
        </p:nvCxnSpPr>
        <p:spPr>
          <a:xfrm>
            <a:off x="6781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543800" y="4876920"/>
            <a:ext cx="38088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4876920"/>
            <a:ext cx="38124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3"/>
            <a:endCxn id="155" idx="1"/>
          </p:cNvCxnSpPr>
          <p:nvPr/>
        </p:nvCxnSpPr>
        <p:spPr>
          <a:xfrm>
            <a:off x="7924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37" idx="3"/>
            <a:endCxn id="139" idx="1"/>
          </p:cNvCxnSpPr>
          <p:nvPr/>
        </p:nvCxnSpPr>
        <p:spPr>
          <a:xfrm>
            <a:off x="1676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0" idx="3"/>
            <a:endCxn id="142" idx="1"/>
          </p:cNvCxnSpPr>
          <p:nvPr/>
        </p:nvCxnSpPr>
        <p:spPr>
          <a:xfrm>
            <a:off x="2819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3" idx="3"/>
            <a:endCxn id="145" idx="1"/>
          </p:cNvCxnSpPr>
          <p:nvPr/>
        </p:nvCxnSpPr>
        <p:spPr>
          <a:xfrm>
            <a:off x="3962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46" idx="3"/>
            <a:endCxn id="148" idx="1"/>
          </p:cNvCxnSpPr>
          <p:nvPr/>
        </p:nvCxnSpPr>
        <p:spPr>
          <a:xfrm>
            <a:off x="5105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9" idx="3"/>
            <a:endCxn id="151" idx="1"/>
          </p:cNvCxnSpPr>
          <p:nvPr/>
        </p:nvCxnSpPr>
        <p:spPr>
          <a:xfrm>
            <a:off x="6248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2" idx="3"/>
            <a:endCxn id="154" idx="1"/>
          </p:cNvCxnSpPr>
          <p:nvPr/>
        </p:nvCxnSpPr>
        <p:spPr>
          <a:xfrm>
            <a:off x="7391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685800" y="548640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486400"/>
            <a:ext cx="38124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3"/>
            <a:endCxn id="164" idx="1"/>
          </p:cNvCxnSpPr>
          <p:nvPr/>
        </p:nvCxnSpPr>
        <p:spPr>
          <a:xfrm>
            <a:off x="1066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1828800" y="5486400"/>
            <a:ext cx="38088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548640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6" idx="3"/>
            <a:endCxn id="167" idx="1"/>
          </p:cNvCxnSpPr>
          <p:nvPr/>
        </p:nvCxnSpPr>
        <p:spPr>
          <a:xfrm>
            <a:off x="2209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2971800" y="548640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548640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3"/>
            <a:endCxn id="170" idx="1"/>
          </p:cNvCxnSpPr>
          <p:nvPr/>
        </p:nvCxnSpPr>
        <p:spPr>
          <a:xfrm>
            <a:off x="3352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114800" y="548640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48640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3"/>
            <a:endCxn id="173" idx="1"/>
          </p:cNvCxnSpPr>
          <p:nvPr/>
        </p:nvCxnSpPr>
        <p:spPr>
          <a:xfrm>
            <a:off x="4495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257800" y="548640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548640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5" idx="3"/>
            <a:endCxn id="176" idx="1"/>
          </p:cNvCxnSpPr>
          <p:nvPr/>
        </p:nvCxnSpPr>
        <p:spPr>
          <a:xfrm>
            <a:off x="5638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6400800" y="548640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548640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8" idx="3"/>
            <a:endCxn id="179" idx="1"/>
          </p:cNvCxnSpPr>
          <p:nvPr/>
        </p:nvCxnSpPr>
        <p:spPr>
          <a:xfrm>
            <a:off x="6781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7543800" y="5486400"/>
            <a:ext cx="38088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5486400"/>
            <a:ext cx="38124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1" idx="3"/>
            <a:endCxn id="182" idx="1"/>
          </p:cNvCxnSpPr>
          <p:nvPr/>
        </p:nvCxnSpPr>
        <p:spPr>
          <a:xfrm>
            <a:off x="7924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64" idx="3"/>
            <a:endCxn id="166" idx="1"/>
          </p:cNvCxnSpPr>
          <p:nvPr/>
        </p:nvCxnSpPr>
        <p:spPr>
          <a:xfrm>
            <a:off x="1676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7" idx="3"/>
            <a:endCxn id="169" idx="1"/>
          </p:cNvCxnSpPr>
          <p:nvPr/>
        </p:nvCxnSpPr>
        <p:spPr>
          <a:xfrm>
            <a:off x="2819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0" idx="3"/>
            <a:endCxn id="172" idx="1"/>
          </p:cNvCxnSpPr>
          <p:nvPr/>
        </p:nvCxnSpPr>
        <p:spPr>
          <a:xfrm>
            <a:off x="3962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3" idx="3"/>
            <a:endCxn id="175" idx="1"/>
          </p:cNvCxnSpPr>
          <p:nvPr/>
        </p:nvCxnSpPr>
        <p:spPr>
          <a:xfrm>
            <a:off x="5105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76" idx="3"/>
            <a:endCxn id="178" idx="1"/>
          </p:cNvCxnSpPr>
          <p:nvPr/>
        </p:nvCxnSpPr>
        <p:spPr>
          <a:xfrm>
            <a:off x="6248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79" idx="3"/>
            <a:endCxn id="181" idx="1"/>
          </p:cNvCxnSpPr>
          <p:nvPr/>
        </p:nvCxnSpPr>
        <p:spPr>
          <a:xfrm>
            <a:off x="7391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85800" y="6095880"/>
            <a:ext cx="38088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6095880"/>
            <a:ext cx="381240" cy="3812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90" idx="3"/>
            <a:endCxn id="191" idx="1"/>
          </p:cNvCxnSpPr>
          <p:nvPr/>
        </p:nvCxnSpPr>
        <p:spPr>
          <a:xfrm>
            <a:off x="1066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1828800" y="6095880"/>
            <a:ext cx="380880" cy="3812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6095880"/>
            <a:ext cx="38124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3" idx="3"/>
            <a:endCxn id="194" idx="1"/>
          </p:cNvCxnSpPr>
          <p:nvPr/>
        </p:nvCxnSpPr>
        <p:spPr>
          <a:xfrm>
            <a:off x="2209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2971800" y="6095880"/>
            <a:ext cx="38088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095880"/>
            <a:ext cx="38124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97" idx="1"/>
          </p:cNvCxnSpPr>
          <p:nvPr/>
        </p:nvCxnSpPr>
        <p:spPr>
          <a:xfrm>
            <a:off x="3352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114800" y="6095880"/>
            <a:ext cx="38088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6095880"/>
            <a:ext cx="38124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9" idx="3"/>
            <a:endCxn id="200" idx="1"/>
          </p:cNvCxnSpPr>
          <p:nvPr/>
        </p:nvCxnSpPr>
        <p:spPr>
          <a:xfrm>
            <a:off x="4495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5257800" y="6095880"/>
            <a:ext cx="38088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6095880"/>
            <a:ext cx="38124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203" idx="1"/>
          </p:cNvCxnSpPr>
          <p:nvPr/>
        </p:nvCxnSpPr>
        <p:spPr>
          <a:xfrm>
            <a:off x="5638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6400800" y="6095880"/>
            <a:ext cx="38088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6095880"/>
            <a:ext cx="38124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5" idx="3"/>
            <a:endCxn id="206" idx="1"/>
          </p:cNvCxnSpPr>
          <p:nvPr/>
        </p:nvCxnSpPr>
        <p:spPr>
          <a:xfrm>
            <a:off x="6781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7543800" y="6095880"/>
            <a:ext cx="38088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53280" y="6095880"/>
            <a:ext cx="38124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8" idx="3"/>
            <a:endCxn id="209" idx="1"/>
          </p:cNvCxnSpPr>
          <p:nvPr/>
        </p:nvCxnSpPr>
        <p:spPr>
          <a:xfrm>
            <a:off x="7924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91" idx="3"/>
            <a:endCxn id="193" idx="1"/>
          </p:cNvCxnSpPr>
          <p:nvPr/>
        </p:nvCxnSpPr>
        <p:spPr>
          <a:xfrm>
            <a:off x="1676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194" idx="3"/>
            <a:endCxn id="196" idx="1"/>
          </p:cNvCxnSpPr>
          <p:nvPr/>
        </p:nvCxnSpPr>
        <p:spPr>
          <a:xfrm>
            <a:off x="2819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197" idx="3"/>
            <a:endCxn id="199" idx="1"/>
          </p:cNvCxnSpPr>
          <p:nvPr/>
        </p:nvCxnSpPr>
        <p:spPr>
          <a:xfrm>
            <a:off x="3962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0" idx="3"/>
            <a:endCxn id="202" idx="1"/>
          </p:cNvCxnSpPr>
          <p:nvPr/>
        </p:nvCxnSpPr>
        <p:spPr>
          <a:xfrm>
            <a:off x="5105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3" idx="3"/>
            <a:endCxn id="205" idx="1"/>
          </p:cNvCxnSpPr>
          <p:nvPr/>
        </p:nvCxnSpPr>
        <p:spPr>
          <a:xfrm>
            <a:off x="6248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6" idx="3"/>
            <a:endCxn id="208" idx="1"/>
          </p:cNvCxnSpPr>
          <p:nvPr/>
        </p:nvCxnSpPr>
        <p:spPr>
          <a:xfrm>
            <a:off x="7391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Threading Sc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correctly recognize arrangements of 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scor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s of mean 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n optimization calc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kTln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, fre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ltzmanns constant and temperature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observed frequency of AB pairs at di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frequency of AB pairs at di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ould expect to see by ch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score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&lt;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)/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ural energies and mean energies of all the wrong structures/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 Different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ness of fit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mpirical energ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to take into account pairwise interactions and solvation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core means good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core means nothing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1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read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-pssm (ICNET). Based on sequence profiles, solvatation potentials and secondary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TS (PredictProtein server) (EMBL). Based on coincidence of secondary structure and accesi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LA-DOE Structure Prediction Server (UCLA). Executes variou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and report a consens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D+  Combines substitution matrix, secondary structure prediction, and contact capacity potent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/HMM (UCSC). Basen on Markov models of alignments of crystalized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 (Burnham Institute). Based on profile-profile matching algorithms of the query sequence with sequences from clustered PDB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PRED-GenThreader (Bru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ER2 (Warwick). Based on solvatation potentials and contacts obtained from crystalized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CAME (Salzbu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 of 3D Structure Prediction by Th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this protein sequence similarity to other with a known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related information in th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from thread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ed folding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structure and mapping of the known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parison between the threading predicted structure and the actual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Threading Based on Multiple Protein Structure Alignmen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tsuya Akutsu and Kim Lan Si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Genome Center, Institute of Medical Science, University of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-Hard if include interactions between 2 or more 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ultiple structural alignments based on pair wise structure al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Sta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57913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Sta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maximum number of gap symbols placed before the first resid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y of the alignme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: : : ;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he maximum number of gaps placed after the last charact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y of the alignments, and le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maximum number of gaps placed between charac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;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;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: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letter of st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t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serting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ps bef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ps af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;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;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, create a pairwise align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serting gaps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deletion of the columns consisting of gap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sults in the same alignment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arran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's into a single matri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e that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's have the same leng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amentals of Protein Th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y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Overview of a Threading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Methodology based on Multiple Protein Structure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Thread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simple score function based on structure alignme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X =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put amino acid seq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i-th column in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and analyze results and/or appl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8001000" cy="244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29718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in Threading with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art of the input sequenc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correspond to part of the structure alignmen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4000680"/>
            <a:ext cx="8229600" cy="2552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5410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in CASP3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prediction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argets evaluated as similar to correct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eam to create a nearly correct model for structure T0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n compet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valuated as similar to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ti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pth detai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tructural align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rosp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ptimum Protein Threading with Gapp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s for protein thread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on threading-bas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pped 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3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y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the reasonable assumption that two homologous proteins will share very similar structu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as a set of inter-atomic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-Hard (if include interactions of multiple resid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score function based on energies in order to correctly recognize arrangements of 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ing via multiple structur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function based upon alignmen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s of 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hreading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rospector: Predictions of Protein-Protein Interaction by Multimeric 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ptimum Protein Threading with Gapp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s for protein thread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on threading-bas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ROSP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gorithm for the prediction of protein-protein interactions by multimeric 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–protein interactions are fundamental to cellular function and are associated with processes such as enzymatic activity, immunological recognition, DNA repair and replication, and cell sign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n be inferred from the nature of the protein with its inter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perties related to the topology of the interface, solvent-accessible surface area and hydrophob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limitations of existing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the sequences through a representative structure template library that, in addition to monomers, also includes each of the chains in representative protein dimer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interaction energy between a pair of protein chains for those protein structures involved in dimeric comple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complex formation determined by the magnitude of the interfacial potentials and the Z-scores of the complex structures relative to that of the mon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ial Statistical Potent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ial pair potenti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20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 …,2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by examining each interface of the selected d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observed number of interacting pair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wo ch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expected number of interacting pair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{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j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Boltzman Principal to the ratio to obtain potential of mean force between 2 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2743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3818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entries of proteins in the P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 - 2000 distinct protein folds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to be only several thousand unique folds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tructure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of determining the three-dimensional structure of proteins from their amino acid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meric Threading Strateg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Z-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" y="1600200"/>
            <a:ext cx="4038480" cy="5029200"/>
            <a:chOff x="457200" y="1600200"/>
            <a:chExt cx="4038480" cy="502920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 txBox="1"/>
            <p:nvPr/>
          </p:nvSpPr>
          <p:spPr>
            <a:xfrm>
              <a:off x="457200" y="1600200"/>
              <a:ext cx="403848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score of the score for each probe-template alignment is used to decide if a correct fold is f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tandard deviation of energies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energy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sequence of M alternative fol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89548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meric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781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Optimum Protein Threading with Gapped Alignment and Empirical Pair Scor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al model corresponds to an annotated backbone trace of the secondary structure segments in the conserved core f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re not considered part of the conserved fold, and are modeled by an arbitrary sequence-specific loop scor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gaps are confined to the connecting non-core loop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istinct threading is assigned a score by an assumed scor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large search space of possible th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-hard search spaces as large as 9.6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rates ranging as high as 6.8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ivalent threading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ped Prote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ading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ore of four secondary structur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interactions. Small circles represent amino acid residue positions (core elements), and thin lines connect neighbors in the folded 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through model by placing successive sequence amino acid residues into adjacent core element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es the sequence residue placed into the first element of seg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quence regions between core segments become connecting turns or lo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 used in the branch-and-bound search are defined by lower and upper limits (dark arrows, labeled 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eg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38680" y="2057400"/>
            <a:ext cx="3165480" cy="4419720"/>
            <a:chOff x="5638680" y="2057400"/>
            <a:chExt cx="3165480" cy="441972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5638680" y="2057400"/>
              <a:ext cx="316548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 txBox="1"/>
            <p:nvPr/>
          </p:nvSpPr>
          <p:spPr>
            <a:xfrm>
              <a:off x="5638680" y="2057400"/>
              <a:ext cx="316548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Pairwise Score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threa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the score assigned to core element or vert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core assigned to interaction or edge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core assigned to loop regi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total score of the threading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function of threading pairs of cor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648320" y="1981080"/>
            <a:ext cx="4038480" cy="4496040"/>
            <a:chOff x="4648320" y="1981080"/>
            <a:chExt cx="4038480" cy="449604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403848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 txBox="1"/>
            <p:nvPr/>
          </p:nvSpPr>
          <p:spPr>
            <a:xfrm>
              <a:off x="4648320" y="1981080"/>
              <a:ext cx="403848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411480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nch-and-Bound Search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-and-bound search requires the abilit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the entire search space as a set of 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any set into sub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 lower bound on the best score achievable within any sub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ome finite number of steps, the chosen set will contain only one threading (equals its lower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itting the Search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all legal threadings is represented by the hyper-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bound on the sc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ttainable by any threa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ing lower bounds on each term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86200" cy="37400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2743200" cy="4446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38080" y="3621240"/>
            <a:ext cx="3581640" cy="1755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52280" y="5334120"/>
            <a:ext cx="876312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nclosing 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s that the lower bound will be instantiated on a specific legal thread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This will be used in split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elow. The equation further ensures that the singleton term,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remains consistent both with the terms that reflect loop scores,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with the other (non-loop) pairwise terms,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The inner 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a different vect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t requir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a legal th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6324840" cy="6248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2362320"/>
            <a:ext cx="236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Spa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tructure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nov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seek to build three-dimensional protein models "from scratch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Ros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prot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uses previously solved structures as starting points, or templ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otein 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Measures for Protein Threading Mode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different prediction methods for protein 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one method to build a model is better than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the performance of exist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ing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predict the correct f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ilarity of the model to the correc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Comparison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ll residues in both the model and the correct structure in an "alignment dependent“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n exact match between the residues in the model and the correc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 structural superposition between the model and the correc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odels that are created from the sequence being aligned onto a single structural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ethods correlat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1 model-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1 template-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homology-models correlate less with the rest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same type correlate well and tend to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34120" y="1981080"/>
            <a:ext cx="3124080" cy="4114800"/>
            <a:chOff x="5334120" y="1981080"/>
            <a:chExt cx="3124080" cy="41148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334120" y="1981080"/>
              <a:ext cx="31240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>
              <a:off x="5334120" y="1981080"/>
              <a:ext cx="31240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ed for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ing models obtained from threading approaches are usually of very low quality, with gaps and insertions in threading alignments that somehow have to be connected or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hreading methods and their associated scoring functions only focus on aspects of protein structure and a subset of their possible inte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 of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s a latti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HO (Side Chain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has been refined by incorporating evolutionary information into the interaction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te Carlo annealing procedure attempts to find a conformation that maintains some (but not all) features of the original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s packing and intra-protei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ti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chain consists of a string of virtual bonds connecting the interaction centers that correspond to the center of mass of the side chains and the backbone alpha carb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interaction centers are projected onto an underlying cubic lattice with a lattice spacing of 1.45 A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uster of excluded volume points is associated with each bead of the model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uster consists of 19 lattic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t approach distance from another cluster labels smallest inter-residu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172200" y="2362320"/>
            <a:ext cx="2743200" cy="2819160"/>
            <a:chOff x="6172200" y="2362320"/>
            <a:chExt cx="2743200" cy="281916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6172200" y="2362320"/>
              <a:ext cx="274320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 txBox="1"/>
            <p:nvPr/>
          </p:nvSpPr>
          <p:spPr>
            <a:xfrm>
              <a:off x="6172200" y="2362320"/>
              <a:ext cx="2743200" cy="28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Model takes on a tub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otent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, sequence-independent, biases that penalize against non protein-like co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body and multibody potentials extracted from a statistical analysis of known protein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ary information extracted from multiple sequence al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iffness/secondary structure bias term has the following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iff=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{0.5, max (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{0.5, max (0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ak bias being introduced towards helix-type and beta-type expand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(i)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2(i)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1(i)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2(i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1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2 contributions defined as a broad range of helical/turn conform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 as expanded co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packing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range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body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potential for residue type A having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and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i-parallel cont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ul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,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i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0.87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-bo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0.7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.2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+ 0.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0.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ul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ading Model Refin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3505320" cy="5410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12193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Generate the threading alignment between the unknown sequence and the template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Derive the sequence similarity-based short and long range pairwise potent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alignments with homologous sequences of unknown structures were used in the potential derivation procedure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Build the starting continuous model chain onto the lattice-projected template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Build the tube around the aligned fragments of the template structure. Then, perform the first stage of Monte Carlo refi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Refinement of th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o be the new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rrow re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owest energ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tom models using MODELLER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Make Protein Structure Prediction a Difficult Ta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ossible structures that proteins may possess is extremely large, as highlighted by the Levinthal para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basis of protein structural stability is not fully underst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sequence may not fully specify the tertiary 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e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imulation of protein folding is not generally tractable for both practical and theoretical reas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targets/template proteins of low sequence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dels used for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f 9 yield lower rmsd than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ing part of threading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y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 a protein related to it by divergent evolution from a common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%  amino-acid identity with its homol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rge insertions or dele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a predicted structure equivalent to that of a medium resolution experimentally solve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% of known protein sequences fall in a safe area implying they can be modeled reli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562720" y="2286000"/>
            <a:ext cx="3581280" cy="3352680"/>
            <a:chOff x="5562720" y="2286000"/>
            <a:chExt cx="3581280" cy="33526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562720" y="2286000"/>
              <a:ext cx="35812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5562720" y="2286000"/>
              <a:ext cx="3581280" cy="33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y Modeling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y mo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the reasonable assumption that two homologous proteins will share very similar structu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the amino acid sequence of an unknown structure and the solved structure of a homologous protein, each amino acid in the solved structure is mutated computationally, into the corresponding amino acid from the unknown structu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y Modeling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study conformatio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find new catalytic/bind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lack of activity vs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ymotrypsionogen, trypsinogen and 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% homolo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ctive, 1 no activity, cannot explain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Bias towards structure of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cannot be doc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Homology Mode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n structure based dru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mmon catalytic sites/molecular recognitio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 a guide to planning and interpret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-80 % chance a protein has a similar fold to the target protein due to X-ray crystallography or NMR 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’s the only option or best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2:05:06Z</dcterms:created>
  <dc:creator>Kristen Huber</dc:creator>
  <dc:description/>
  <dc:language>en-US</dc:language>
  <cp:lastModifiedBy>Ramgopal Mettu</cp:lastModifiedBy>
  <dcterms:modified xsi:type="dcterms:W3CDTF">2006-05-01T19:35:04Z</dcterms:modified>
  <cp:revision>50</cp:revision>
  <dc:subject/>
  <dc:title>Homology Modeling  via  Protein Threading</dc:title>
</cp:coreProperties>
</file>