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002F-8456-4225-BFF2-270102A7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3AAC-F7BA-431C-BFAE-F6C277F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2687-5C66-444B-BEC1-AE332E6A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D001-E976-4372-B787-ECC99A0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63A-4A2A-43AF-AD11-38846B28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BF6-D28A-4AF3-BD10-BDBF764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6C5-7868-48D5-98D5-C57A9FC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AED-0FCC-4D68-ADDE-635930EA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C071-14A6-4BD0-BD9E-D822449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475-F59A-4088-9CC8-A4BB10B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2A2-FBC4-41BA-AB0D-2CA1E8B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A052-3895-4197-8074-408EEA4B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DB7-C608-4FDF-9FCF-41814D9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C5E9-48FF-4239-A4EB-EDF54FB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539A-DECA-470C-8E26-CFE3EFEA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21E-BEBB-43D3-9BE2-98849379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2723-4786-43BB-861F-F4FEB265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0444-072D-4E92-9717-0E707BDE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7EAA-6DCB-4BD4-8B0F-128E5DF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D5A3-3501-4CA1-B3F1-094A761C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BED7-999B-4CD0-8FE4-B0FB01B1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F916-0DF8-45BF-8C85-1CF42E4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FA98-7003-4260-BB29-CEC496A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5962-5D70-48DD-A430-4FA8519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759-B266-4B59-A7CD-D57376C5C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6BB-51D6-4F2C-BC00-3314EA705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80010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mology Modeling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ia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rotein Thread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isten Hu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97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 in Computational Bi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9,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rget sequence is threaded through the backbone structure of a collection of template proteins (fold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measure of how well the sequence fits the 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ssum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 structures of proteins have characteristics that are semi-quantitatively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physical-chemical properties of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ypes of interactions allowed within fo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 Recogni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wie,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 and Eisenberg  (19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pproaches to recogni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a 1-D profile for each structure in the fold library and align the target sequence to these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mino acids  based on core or external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second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ull 3-D structure of the protein temp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s a set of inter-atomic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(if include interactions of multiple resid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threading implies that one drags the sequence (ACDEFG...) step by step through each location on each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3581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4876920"/>
            <a:ext cx="38088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76920"/>
            <a:ext cx="38124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1066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1828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87692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40" idx="1"/>
          </p:cNvCxnSpPr>
          <p:nvPr/>
        </p:nvCxnSpPr>
        <p:spPr>
          <a:xfrm>
            <a:off x="2209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971800" y="487692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87692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3" idx="1"/>
          </p:cNvCxnSpPr>
          <p:nvPr/>
        </p:nvCxnSpPr>
        <p:spPr>
          <a:xfrm>
            <a:off x="3352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487692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487692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3"/>
            <a:endCxn id="146" idx="1"/>
          </p:cNvCxnSpPr>
          <p:nvPr/>
        </p:nvCxnSpPr>
        <p:spPr>
          <a:xfrm>
            <a:off x="4495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5257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87692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>
            <a:off x="5638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6400800" y="487692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487692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2" idx="1"/>
          </p:cNvCxnSpPr>
          <p:nvPr/>
        </p:nvCxnSpPr>
        <p:spPr>
          <a:xfrm>
            <a:off x="6781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543800" y="4876920"/>
            <a:ext cx="38088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487692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3"/>
            <a:endCxn id="155" idx="1"/>
          </p:cNvCxnSpPr>
          <p:nvPr/>
        </p:nvCxnSpPr>
        <p:spPr>
          <a:xfrm>
            <a:off x="7924320" y="5067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7" idx="3"/>
            <a:endCxn id="139" idx="1"/>
          </p:cNvCxnSpPr>
          <p:nvPr/>
        </p:nvCxnSpPr>
        <p:spPr>
          <a:xfrm>
            <a:off x="1676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0" idx="3"/>
            <a:endCxn id="142" idx="1"/>
          </p:cNvCxnSpPr>
          <p:nvPr/>
        </p:nvCxnSpPr>
        <p:spPr>
          <a:xfrm>
            <a:off x="2819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3" idx="3"/>
            <a:endCxn id="145" idx="1"/>
          </p:cNvCxnSpPr>
          <p:nvPr/>
        </p:nvCxnSpPr>
        <p:spPr>
          <a:xfrm>
            <a:off x="3962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46" idx="3"/>
            <a:endCxn id="148" idx="1"/>
          </p:cNvCxnSpPr>
          <p:nvPr/>
        </p:nvCxnSpPr>
        <p:spPr>
          <a:xfrm>
            <a:off x="5105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9" idx="3"/>
            <a:endCxn id="151" idx="1"/>
          </p:cNvCxnSpPr>
          <p:nvPr/>
        </p:nvCxnSpPr>
        <p:spPr>
          <a:xfrm>
            <a:off x="6248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2" idx="3"/>
            <a:endCxn id="154" idx="1"/>
          </p:cNvCxnSpPr>
          <p:nvPr/>
        </p:nvCxnSpPr>
        <p:spPr>
          <a:xfrm>
            <a:off x="7391160" y="50670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685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486400"/>
            <a:ext cx="38124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3"/>
            <a:endCxn id="164" idx="1"/>
          </p:cNvCxnSpPr>
          <p:nvPr/>
        </p:nvCxnSpPr>
        <p:spPr>
          <a:xfrm>
            <a:off x="1066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1828800" y="5486400"/>
            <a:ext cx="380880" cy="3808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6" idx="3"/>
            <a:endCxn id="167" idx="1"/>
          </p:cNvCxnSpPr>
          <p:nvPr/>
        </p:nvCxnSpPr>
        <p:spPr>
          <a:xfrm>
            <a:off x="2209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>
            <a:off x="2971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548640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3"/>
            <a:endCxn id="170" idx="1"/>
          </p:cNvCxnSpPr>
          <p:nvPr/>
        </p:nvCxnSpPr>
        <p:spPr>
          <a:xfrm>
            <a:off x="3352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114800" y="548640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486400"/>
            <a:ext cx="38124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3"/>
            <a:endCxn id="173" idx="1"/>
          </p:cNvCxnSpPr>
          <p:nvPr/>
        </p:nvCxnSpPr>
        <p:spPr>
          <a:xfrm>
            <a:off x="4495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257800" y="5486400"/>
            <a:ext cx="380880" cy="3808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5" idx="3"/>
            <a:endCxn id="176" idx="1"/>
          </p:cNvCxnSpPr>
          <p:nvPr/>
        </p:nvCxnSpPr>
        <p:spPr>
          <a:xfrm>
            <a:off x="5638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6400800" y="5486400"/>
            <a:ext cx="38088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5486400"/>
            <a:ext cx="381240" cy="3808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8" idx="3"/>
            <a:endCxn id="179" idx="1"/>
          </p:cNvCxnSpPr>
          <p:nvPr/>
        </p:nvCxnSpPr>
        <p:spPr>
          <a:xfrm>
            <a:off x="6781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7543800" y="5486400"/>
            <a:ext cx="38088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5486400"/>
            <a:ext cx="381240" cy="38088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2" idx="1"/>
          </p:cNvCxnSpPr>
          <p:nvPr/>
        </p:nvCxnSpPr>
        <p:spPr>
          <a:xfrm>
            <a:off x="7924320" y="5676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64" idx="3"/>
            <a:endCxn id="166" idx="1"/>
          </p:cNvCxnSpPr>
          <p:nvPr/>
        </p:nvCxnSpPr>
        <p:spPr>
          <a:xfrm>
            <a:off x="1676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7" idx="3"/>
            <a:endCxn id="169" idx="1"/>
          </p:cNvCxnSpPr>
          <p:nvPr/>
        </p:nvCxnSpPr>
        <p:spPr>
          <a:xfrm>
            <a:off x="2819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0" idx="3"/>
            <a:endCxn id="172" idx="1"/>
          </p:cNvCxnSpPr>
          <p:nvPr/>
        </p:nvCxnSpPr>
        <p:spPr>
          <a:xfrm>
            <a:off x="3962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3" idx="3"/>
            <a:endCxn id="175" idx="1"/>
          </p:cNvCxnSpPr>
          <p:nvPr/>
        </p:nvCxnSpPr>
        <p:spPr>
          <a:xfrm>
            <a:off x="5105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76" idx="3"/>
            <a:endCxn id="178" idx="1"/>
          </p:cNvCxnSpPr>
          <p:nvPr/>
        </p:nvCxnSpPr>
        <p:spPr>
          <a:xfrm>
            <a:off x="6248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9" idx="3"/>
            <a:endCxn id="181" idx="1"/>
          </p:cNvCxnSpPr>
          <p:nvPr/>
        </p:nvCxnSpPr>
        <p:spPr>
          <a:xfrm>
            <a:off x="7391160" y="56764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85800" y="6095880"/>
            <a:ext cx="38088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6095880"/>
            <a:ext cx="381240" cy="381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0" idx="3"/>
            <a:endCxn id="191" idx="1"/>
          </p:cNvCxnSpPr>
          <p:nvPr/>
        </p:nvCxnSpPr>
        <p:spPr>
          <a:xfrm>
            <a:off x="1066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1828800" y="6095880"/>
            <a:ext cx="380880" cy="3812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3" idx="3"/>
            <a:endCxn id="194" idx="1"/>
          </p:cNvCxnSpPr>
          <p:nvPr/>
        </p:nvCxnSpPr>
        <p:spPr>
          <a:xfrm>
            <a:off x="2209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2971800" y="6095880"/>
            <a:ext cx="38088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095880"/>
            <a:ext cx="38124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97" idx="1"/>
          </p:cNvCxnSpPr>
          <p:nvPr/>
        </p:nvCxnSpPr>
        <p:spPr>
          <a:xfrm>
            <a:off x="3352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114800" y="6095880"/>
            <a:ext cx="38088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6095880"/>
            <a:ext cx="381240" cy="3812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9" idx="3"/>
            <a:endCxn id="200" idx="1"/>
          </p:cNvCxnSpPr>
          <p:nvPr/>
        </p:nvCxnSpPr>
        <p:spPr>
          <a:xfrm>
            <a:off x="4495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5257800" y="6095880"/>
            <a:ext cx="38088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6095880"/>
            <a:ext cx="38124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203" idx="1"/>
          </p:cNvCxnSpPr>
          <p:nvPr/>
        </p:nvCxnSpPr>
        <p:spPr>
          <a:xfrm>
            <a:off x="5638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6400800" y="6095880"/>
            <a:ext cx="380880" cy="38124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5" idx="3"/>
            <a:endCxn id="206" idx="1"/>
          </p:cNvCxnSpPr>
          <p:nvPr/>
        </p:nvCxnSpPr>
        <p:spPr>
          <a:xfrm>
            <a:off x="6781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7543800" y="6095880"/>
            <a:ext cx="38088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53280" y="6095880"/>
            <a:ext cx="381240" cy="38124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8" idx="3"/>
            <a:endCxn id="209" idx="1"/>
          </p:cNvCxnSpPr>
          <p:nvPr/>
        </p:nvCxnSpPr>
        <p:spPr>
          <a:xfrm>
            <a:off x="7924320" y="62863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1" idx="3"/>
            <a:endCxn id="193" idx="1"/>
          </p:cNvCxnSpPr>
          <p:nvPr/>
        </p:nvCxnSpPr>
        <p:spPr>
          <a:xfrm>
            <a:off x="1676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194" idx="3"/>
            <a:endCxn id="196" idx="1"/>
          </p:cNvCxnSpPr>
          <p:nvPr/>
        </p:nvCxnSpPr>
        <p:spPr>
          <a:xfrm>
            <a:off x="2819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97" idx="3"/>
            <a:endCxn id="199" idx="1"/>
          </p:cNvCxnSpPr>
          <p:nvPr/>
        </p:nvCxnSpPr>
        <p:spPr>
          <a:xfrm>
            <a:off x="3962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0" idx="3"/>
            <a:endCxn id="202" idx="1"/>
          </p:cNvCxnSpPr>
          <p:nvPr/>
        </p:nvCxnSpPr>
        <p:spPr>
          <a:xfrm>
            <a:off x="5105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3" idx="3"/>
            <a:endCxn id="205" idx="1"/>
          </p:cNvCxnSpPr>
          <p:nvPr/>
        </p:nvCxnSpPr>
        <p:spPr>
          <a:xfrm>
            <a:off x="6248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6" idx="3"/>
            <a:endCxn id="208" idx="1"/>
          </p:cNvCxnSpPr>
          <p:nvPr/>
        </p:nvCxnSpPr>
        <p:spPr>
          <a:xfrm>
            <a:off x="7391160" y="6286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Threading Sc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correctly recognize arrangements of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scor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s of mean fo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n optimization calc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kTln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, fre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ltzmanns constant and temperature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observed frequency of AB pairs at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frequency of AB pairs at di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uld expect to see by ch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score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&lt;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)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ural energies and mean energies of all the wrong structures/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Different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ness of fit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empirical energ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to take into account pairwise interactions and solvation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core means good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core means nothing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1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read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-pssm (ICNET). Based on sequence profiles, solvatation potentials and secondary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TS (PredictProtein server) (EMBL). Based on coincidence of secondary structure and accesi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LA-DOE Structure Prediction Server (UCLA). Executes vario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port a consens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D+  Combines substitution matrix, secondary structure prediction, and contact capacity potent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/HMM (UCSC). Basen on Markov models of alignments of crystalized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 (Burnham Institute). Based on profile-profile matching algorithms of the query sequence with sequences from clustered PDB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PRED-GenThreader (Bru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ER2 (Warwick). Based on solvatation potentials and contacts obtained from crystalized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CAME (Salzbu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of 3D Structure Prediction by Th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his protein sequence similarity to other with a known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related information in th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from thread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ed folding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structure and mapping of the known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arison between the threading predicted structure and the actual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Threading Based on Multiple Protein Structure Alignme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tsuya Akutsu and Kim Lan Si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Genome Center, Institute of Medical Science, University of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-Hard if include interactions between 2 or more 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ultiple structural alignments based on pair wise structure al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Sta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57913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Sta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maximum number of gap symbols placed before the first resid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y of the alignme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: : : ;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Let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maximum number of gaps placed after the last charact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ny of the alignments, and le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maximum number of gaps placed between charac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: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letter of 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tr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serting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ps bef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ps af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;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;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), create a pairwise align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serting gaps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deletion of the columns consisting of gap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sults in the same alignment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arran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's into a single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 that 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's have the same leng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amentals of Protein Th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Overview of a Threading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Methodology based on Multiple Protein Structure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hread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simple score function based on structure alignme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X =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put amino acid seq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i-th column in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and analyze results and/or appl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8001000" cy="244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9718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in Threading with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art of the input sequenc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rrespond to part of the structure alignmen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4000680"/>
            <a:ext cx="8229600" cy="2552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5410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in CASP3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prediction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argets evaluated as similar to correct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eam to create a nearly correct model for structure T0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n compet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valuated as similar to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ti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pth detai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tructural align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rosp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ptimum Protein Threading with Gapp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on threading-bas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pped Al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the reasonable assumption that two homologous proteins will share very similar struc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as a set of inter-atomic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(if include interactions of multiple resid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score function based on energies in order to correctly recognize arrangements of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 via multiple structur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function based upon align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s of Protein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hreading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rospector: Predictions of Protein-Protein Interaction by Multimeric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ptimum Protein Threading with Gapp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on threading-bas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ROSP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gorithm for the prediction of protein-protein interactions by multimeric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–protein interactions are fundamental to cellular function and are associated with processes such as enzymatic activity, immunological recognition, DNA repair and replication, and cell sign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n be inferred from the nature of the protein with its inter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operties related to the topology of the interface, solvent-accessible surface area and hydrophob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limitations of existing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the sequences through a representative structure template library that, in addition to monomers, also includes each of the chains in representative protein dimer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interaction energy between a pair of protein chains for those protein structures involved in dimeric compl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complex formation determined by the magnitude of the interfacial potentials and the Z-scores of the complex structures relative to that of the mon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ial Statistical Potent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ial pair potent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2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, …,2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by examining each interface of the selected d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observed number of interacting pai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wo ch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expected number of interacting pai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{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j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Boltzman Principal to the ratio to obtain potential of mean force between 2 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2743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381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entries of proteins in the P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 - 2000 distinct protein folds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to be only several thousand unique folds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tructure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of determining the three-dimensional structure of proteins from their amino acid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meric Threading Strateg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Z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600200"/>
            <a:ext cx="4038480" cy="5029200"/>
            <a:chOff x="457200" y="1600200"/>
            <a:chExt cx="4038480" cy="502920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457200" y="1600200"/>
              <a:ext cx="403848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score of the score for each probe-template alignment is used to decide if a correct fold is f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andard deviation of energies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energy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 sequence of M alternative fol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8954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meric Th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781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Optimum Protein Threading with Gapped Alignment and Empirical Pair Scor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al model corresponds to an annotated backbone trace of the secondary structure segments in the conserved core f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re not considered part of the conserved fold, and are modeled by an arbitrary sequence-specific loop scor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gaps are confined to the connecting non-core loop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stinct threading is assigned a score by an assumed scor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large search space of possible th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-hard search spaces as large as 9.6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rates ranging as high as 6.8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ivalent threading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ped Prote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ad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ore of four secondary structur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interactions. Small circles represent amino acid residue positions (core elements), and thin lines connect neighbors in the folded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through model by placing successive sequence amino acid residues into adjacent core element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s the sequence residue placed into the first element of seg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quence regions between core segments become connecting turns or lo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used in the branch-and-bound search are defined by lower and upper limits (dark arrows, labeled 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g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38680" y="2057400"/>
            <a:ext cx="3165480" cy="4419720"/>
            <a:chOff x="5638680" y="2057400"/>
            <a:chExt cx="3165480" cy="44197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5638680" y="2057400"/>
              <a:ext cx="316548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5638680" y="2057400"/>
              <a:ext cx="316548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Pairwise Score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threa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 the score assigned to core element or vert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core assigned to interaction or edge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core assigned to loop regi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total score of the threading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function of threading pairs of cor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648320" y="1981080"/>
            <a:ext cx="4038480" cy="4496040"/>
            <a:chOff x="4648320" y="1981080"/>
            <a:chExt cx="4038480" cy="4496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403848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 txBox="1"/>
            <p:nvPr/>
          </p:nvSpPr>
          <p:spPr>
            <a:xfrm>
              <a:off x="4648320" y="1981080"/>
              <a:ext cx="403848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411480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ch-and-Bound Search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-and-bound search requires the abilit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the entire search space as a set of 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any set into sub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 lower bound on the best score achievable within any sub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ome finite number of steps, the chosen set will contain only one threading (equals its lower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itting the Search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f all legal threadings is represented by the hyper-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ound on the sc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ttainable by any threa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ng lower bounds on each term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86200" cy="3740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2743200" cy="4446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38080" y="3621240"/>
            <a:ext cx="3581640" cy="1755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52280" y="5334120"/>
            <a:ext cx="876312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nclosing 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s that the lower bound will be instantiated on a specific legal thread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his will be used in split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elow. The equation further ensures that the singleton term,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remains consistent both with the terms that reflect loop scor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with the other (non-loop) pairwise terms,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The inner 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 different vect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requir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a legal th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6324840" cy="6248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2362320"/>
            <a:ext cx="23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Spac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tructure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nov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seek to build three-dimensional protein models "from scratch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Ros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pro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uses previously solved structures as starting points, or temp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otein t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Measures for Protein Threading Mode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different prediction methods for protein 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one method to build a model is better tha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performance of exis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ing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predict the correct 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ilarity of the model to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Comparison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ll residues in both the model and the correct structure in an "alignment dependent“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n exact match between the residues in the model and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structural superposition between the model and the correc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odels that are created from the sequence being aligned onto a single structural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ethods correlat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1 model-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1 template-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homology-models correlate less with the rest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same type correlate well and tend to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34120" y="1981080"/>
            <a:ext cx="3124080" cy="4114800"/>
            <a:chOff x="5334120" y="1981080"/>
            <a:chExt cx="3124080" cy="41148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334120" y="1981080"/>
              <a:ext cx="31240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5334120" y="1981080"/>
              <a:ext cx="31240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ed for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models obtained from threading approaches are usually of very low quality, with gaps and insertions in threading alignments that somehow have to be connected or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hreading methods and their associated scoring functions only focus on aspects of protein structure and a subset of their possible inte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of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s a latti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O (Side Chain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has been refined by incorporating evolutionary information into the interaction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nte Carlo annealing procedure attempts to find a conformation that maintains some (but not all) features of the original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s packing and intra-protei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t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chain consists of a string of virtual bonds connecting the interaction centers that correspond to the center of mass of the side chains and the backbone alpha carb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nteraction centers are projected onto an underlying cubic lattice with a lattice spacing of 1.45 A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uster of excluded volume points is associated with each bead of the model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uster consists of 19 lattic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t approach distance from another cluster labels smallest inter-residu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72200" y="2362320"/>
            <a:ext cx="2743200" cy="2819160"/>
            <a:chOff x="6172200" y="2362320"/>
            <a:chExt cx="2743200" cy="281916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6172200" y="2362320"/>
              <a:ext cx="274320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 txBox="1"/>
            <p:nvPr/>
          </p:nvSpPr>
          <p:spPr>
            <a:xfrm>
              <a:off x="6172200" y="2362320"/>
              <a:ext cx="2743200" cy="28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Model takes on a tub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ot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, sequence-independent, biases that penalize against non protein-like co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body and multibody potentials extracted from a statistical analysis of known protein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ary information extracted from multiple sequence al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ffness/secondary structure bias term has the following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iff=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{0.5, max (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{0.5, max (0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ak bias being introduced towards helix-type and beta-type expand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2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1(i) +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2(i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1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2 contributions defined as a broad range of helical/turn con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 as expanded co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packing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ange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body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potential for residue type A having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and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i-parallel cont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l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i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87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-bo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7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.2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+ 0.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0.5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l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ading Model Refin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505320" cy="5410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12193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Generate the threading alignment between the unknown sequence and the templat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erive the sequence similarity-based short and long range pairwise potent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alignments with homologous sequences of unknown structures were used in the potential derivation procedur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Build the starting continuous model chain onto the lattice-projected templat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Build the tube around the aligned fragments of the template structure. Then, perform the first stage of Monte Carlo refi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Refinement of th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o be the new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rrow re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owest energ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tom models using MODELLER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Make Protein Structure Prediction a Difficult Tas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ossible structures that proteins may possess is extremely large, as highlighted by the Levinthal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basis of protein structural stability is not fully underst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sequence may not fully specify the tertiary 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pe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imulation of protein folding is not generally tractable for both practical and theoretical reas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targets/template proteins of low sequenc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dels used for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f 9 yield lower rmsd than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ing part of threading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 a protein related to it by divergent evolution from a commo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%  amino-acid identity with its homol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arge insertions or dele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a predicted structure equivalent to that of a medium resolution experimentally solve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% of known protein sequences fall in a safe area implying they can be modeled reli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562720" y="2286000"/>
            <a:ext cx="3581280" cy="3352680"/>
            <a:chOff x="5562720" y="2286000"/>
            <a:chExt cx="358128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562720" y="2286000"/>
              <a:ext cx="35812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5562720" y="2286000"/>
              <a:ext cx="3581280" cy="33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y mo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the reasonable assumption that two homologous proteins will share very similar stru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the amino acid sequence of an unknown structure and the solved structure of a homologous protein, each amino acid in the solved structure is mutated computationally, into the corresponding amino acid from the unknown structu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y Modeling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study conformati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find new catalytic/bind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lack of activity v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ymotrypsionogen, trypsinogen and 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% homolo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ctive, 1 no activity, cannot explain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Bias towards structure of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cannot be doc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omology Mode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n structure based dru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mmon catalytic sites/molecular recogniti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a guide to planning and interpre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80 % chance a protein has a similar fold to the target protein due to X-ray crystallography or NMR 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the only option or best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2:05:06Z</dcterms:created>
  <dc:creator>Kristen Huber</dc:creator>
  <dc:description/>
  <dc:language>en-US</dc:language>
  <cp:lastModifiedBy>Ramgopal Mettu</cp:lastModifiedBy>
  <dcterms:modified xsi:type="dcterms:W3CDTF">2006-05-01T19:35:04Z</dcterms:modified>
  <cp:revision>50</cp:revision>
  <dc:subject/>
  <dc:title>Homology Modeling  via  Protein Threading</dc:title>
</cp:coreProperties>
</file>