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092-8E2F-4378-BBE0-CDDD6DE2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4F9-30D8-4817-8680-3A66E7A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03C-CE6C-4559-A48A-2D8D46C9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AFE-8EBF-4CB0-A8F8-512795A4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F5F-4C4F-4E49-9445-30FC3DEB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182-49DB-4314-9F67-6224E1B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B40-ECE2-456F-9046-CCC3141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CFB-6F3B-489B-8B6E-BE6EEDF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CA-4460-481E-B42B-2491F4B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720-0A50-4B99-BC2A-B511066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A3A-A752-4A71-8B5B-AAE7259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6F6-E3D1-43C3-8AD0-B53F20E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1F6-2AEC-494C-B42A-86FDE89C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62064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CHÀO MỪNG CÁC THẦY C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VỀ  DỰ GIỜ THĂM LỚ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770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1920" y="33526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Arial"/>
              </a:rPr>
              <a:t>HÌNH HỌC LỚP 12 - CHƯƠNG I – BÀI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6892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ỰC HIỆN : NGUYỄN HỒNG V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SOẠN XONG NGÀY 29 THÁNG 7 /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280"/>
                            </p:stCondLst>
                            <p:childTnLst>
                              <p:par>
                                <p:cTn id="31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2580"/>
                            </p:stCondLst>
                            <p:childTnLst>
                              <p:par>
                                <p:cTn id="37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92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92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192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92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478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818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9220"/>
                            </p:stCondLst>
                            <p:childTnLst>
                              <p:par>
                                <p:cTn id="64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2160"/>
                            </p:stCondLst>
                            <p:childTnLst>
                              <p:par>
                                <p:cTn id="70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92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92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192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192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96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656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8480"/>
                            </p:stCondLst>
                            <p:childTnLst>
                              <p:par>
                                <p:cTn id="97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2740"/>
                            </p:stCondLst>
                            <p:childTnLst>
                              <p:par>
                                <p:cTn id="103" nodeType="after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20" y="1666800"/>
            <a:ext cx="9099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í d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ứng minh r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ng điểm các cạnh của một tứ diện đều là các đỉ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một bát đ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âm của các mặt của một hình lập  phuơng là các đỉ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một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3429000" y="60706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685080" y="5867280"/>
            <a:ext cx="2613240" cy="825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ình v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h họa cho ví d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60760" cy="598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876920" cy="504180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656604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3810960" y="6324480"/>
            <a:ext cx="25138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533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04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1200" y="6324480"/>
            <a:ext cx="171540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0360" y="6324480"/>
            <a:ext cx="17323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562720" y="2478240"/>
            <a:ext cx="2514600" cy="28954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4120" y="45720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 dụ về khối đa diện lồi và  không lồi trong thực t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9320" y="253224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478240"/>
            <a:ext cx="2514600" cy="2819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52974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24280" y="2478240"/>
            <a:ext cx="3352680" cy="3670200"/>
            <a:chOff x="4724280" y="2478240"/>
            <a:chExt cx="3352680" cy="3670200"/>
          </a:xfrm>
        </p:grpSpPr>
        <p:sp>
          <p:nvSpPr>
            <p:cNvPr id="181" name=""/>
            <p:cNvSpPr/>
            <p:nvPr/>
          </p:nvSpPr>
          <p:spPr>
            <a:xfrm>
              <a:off x="4724280" y="249084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529740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49840" y="529740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5320" y="247824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238880" y="254484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345200" y="2057400"/>
            <a:ext cx="4066920" cy="4537080"/>
            <a:chOff x="4345200" y="2057400"/>
            <a:chExt cx="4066920" cy="4537080"/>
          </a:xfrm>
        </p:grpSpPr>
        <p:sp>
          <p:nvSpPr>
            <p:cNvPr id="187" name=""/>
            <p:cNvSpPr/>
            <p:nvPr/>
          </p:nvSpPr>
          <p:spPr>
            <a:xfrm>
              <a:off x="5504040" y="4916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0080" y="20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5200" y="3178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67800" y="2859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6480" y="209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9160" y="6226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6059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2800" y="5297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724280" y="331632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247824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320" y="25686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51460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00" y="533412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2514600"/>
            <a:ext cx="3352680" cy="3670200"/>
            <a:chOff x="152280" y="2514600"/>
            <a:chExt cx="3352680" cy="3670200"/>
          </a:xfrm>
        </p:grpSpPr>
        <p:sp>
          <p:nvSpPr>
            <p:cNvPr id="201" name=""/>
            <p:cNvSpPr/>
            <p:nvPr/>
          </p:nvSpPr>
          <p:spPr>
            <a:xfrm>
              <a:off x="152280" y="252720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33376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77840" y="533376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3320" y="251460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666880" y="25812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226800" y="2093760"/>
            <a:ext cx="4066920" cy="4537080"/>
            <a:chOff x="-226800" y="2093760"/>
            <a:chExt cx="4066920" cy="4537080"/>
          </a:xfrm>
        </p:grpSpPr>
        <p:sp>
          <p:nvSpPr>
            <p:cNvPr id="207" name=""/>
            <p:cNvSpPr/>
            <p:nvPr/>
          </p:nvSpPr>
          <p:spPr>
            <a:xfrm>
              <a:off x="932040" y="495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80" y="2093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226800" y="321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95800" y="2895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54480" y="2133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42840" y="626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79760" y="6095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5333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52280" y="335268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00" y="25146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889 L -3.33333E-006 -0.26666 E">
                                      <p:cBhvr>
                                        <p:cTn id="25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81080" y="363600"/>
            <a:ext cx="3853080" cy="2455920"/>
          </a:xfrm>
          <a:custGeom>
            <a:avLst/>
            <a:gdLst/>
            <a:ahLst/>
            <a:rect l="l" t="t" r="r" b="b"/>
            <a:pathLst>
              <a:path w="2427" h="1547">
                <a:moveTo>
                  <a:pt x="0" y="1547"/>
                </a:moveTo>
                <a:lnTo>
                  <a:pt x="2427" y="1536"/>
                </a:lnTo>
                <a:lnTo>
                  <a:pt x="1056" y="0"/>
                </a:lnTo>
                <a:lnTo>
                  <a:pt x="5" y="153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31840" y="2819520"/>
            <a:ext cx="3730680" cy="739800"/>
          </a:xfrm>
          <a:custGeom>
            <a:avLst/>
            <a:gdLst/>
            <a:ahLst/>
            <a:rect l="l" t="t" r="r" b="b"/>
            <a:pathLst>
              <a:path w="2350" h="466">
                <a:moveTo>
                  <a:pt x="16" y="2"/>
                </a:moveTo>
                <a:lnTo>
                  <a:pt x="2350" y="0"/>
                </a:lnTo>
                <a:lnTo>
                  <a:pt x="923" y="466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0720" y="380880"/>
            <a:ext cx="3886560" cy="3200400"/>
            <a:chOff x="1980720" y="380880"/>
            <a:chExt cx="3886560" cy="3200400"/>
          </a:xfrm>
        </p:grpSpPr>
        <p:sp>
          <p:nvSpPr>
            <p:cNvPr id="221" name=""/>
            <p:cNvSpPr/>
            <p:nvPr/>
          </p:nvSpPr>
          <p:spPr>
            <a:xfrm>
              <a:off x="1981080" y="281952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504960" y="2819520"/>
              <a:ext cx="236196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2819520"/>
              <a:ext cx="152424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80720" y="380880"/>
              <a:ext cx="167652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80880"/>
              <a:ext cx="220968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4960" y="380880"/>
              <a:ext cx="15228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05320" y="360360"/>
            <a:ext cx="2352600" cy="3220920"/>
          </a:xfrm>
          <a:custGeom>
            <a:avLst/>
            <a:gdLst/>
            <a:ahLst/>
            <a:rect l="l" t="t" r="r" b="b"/>
            <a:pathLst>
              <a:path w="1482" h="2029">
                <a:moveTo>
                  <a:pt x="5" y="2027"/>
                </a:moveTo>
                <a:lnTo>
                  <a:pt x="1482" y="1545"/>
                </a:lnTo>
                <a:lnTo>
                  <a:pt x="101" y="0"/>
                </a:lnTo>
                <a:lnTo>
                  <a:pt x="0" y="2029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3160" y="417600"/>
            <a:ext cx="1684440" cy="3163680"/>
          </a:xfrm>
          <a:custGeom>
            <a:avLst/>
            <a:gdLst/>
            <a:ahLst/>
            <a:rect l="l" t="t" r="r" b="b"/>
            <a:pathLst>
              <a:path w="1061" h="1993">
                <a:moveTo>
                  <a:pt x="5" y="1529"/>
                </a:moveTo>
                <a:lnTo>
                  <a:pt x="951" y="1993"/>
                </a:lnTo>
                <a:lnTo>
                  <a:pt x="1061" y="0"/>
                </a:lnTo>
                <a:lnTo>
                  <a:pt x="0" y="152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895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09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3581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1600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Đ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838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4479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057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29560" y="255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44197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0" y="76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8200" y="2590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5680" y="28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3138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3388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58200" y="3733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509580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tứ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4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2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7000" y="9684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91440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373392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914400"/>
            <a:ext cx="3352680" cy="3670200"/>
            <a:chOff x="2362320" y="914400"/>
            <a:chExt cx="3352680" cy="3670200"/>
          </a:xfrm>
        </p:grpSpPr>
        <p:sp>
          <p:nvSpPr>
            <p:cNvPr id="253" name=""/>
            <p:cNvSpPr/>
            <p:nvPr/>
          </p:nvSpPr>
          <p:spPr>
            <a:xfrm>
              <a:off x="2362320" y="92700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373356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387880" y="373356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13360" y="91440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76920" y="98100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3581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914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Đ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895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53341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47242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4114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35812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2971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51200" y="493560"/>
            <a:ext cx="4066920" cy="4537080"/>
            <a:chOff x="1951200" y="493560"/>
            <a:chExt cx="4066920" cy="4537080"/>
          </a:xfrm>
        </p:grpSpPr>
        <p:sp>
          <p:nvSpPr>
            <p:cNvPr id="270" name=""/>
            <p:cNvSpPr/>
            <p:nvPr/>
          </p:nvSpPr>
          <p:spPr>
            <a:xfrm>
              <a:off x="3110040" y="3352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6080" y="493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51200" y="1614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3800" y="1295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32480" y="533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35160" y="4662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57760" y="4495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08800" y="3733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362320" y="175248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54100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1600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Đỉ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2578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4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lập ph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5680" y="91440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3581280" y="638964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4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52560" y="2571840"/>
            <a:ext cx="4276800" cy="3576600"/>
          </a:xfrm>
          <a:custGeom>
            <a:avLst/>
            <a:gdLst/>
            <a:ahLst/>
            <a:rect l="l" t="t" r="r" b="b"/>
            <a:pathLst>
              <a:path w="2694" h="2253">
                <a:moveTo>
                  <a:pt x="23" y="3"/>
                </a:moveTo>
                <a:lnTo>
                  <a:pt x="2694" y="0"/>
                </a:lnTo>
                <a:lnTo>
                  <a:pt x="932" y="225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600" y="2585880"/>
            <a:ext cx="2841480" cy="3586320"/>
          </a:xfrm>
          <a:custGeom>
            <a:avLst/>
            <a:gdLst/>
            <a:ahLst/>
            <a:rect l="l" t="t" r="r" b="b"/>
            <a:pathLst>
              <a:path w="1830" h="2259">
                <a:moveTo>
                  <a:pt x="904" y="0"/>
                </a:moveTo>
                <a:lnTo>
                  <a:pt x="0" y="666"/>
                </a:lnTo>
                <a:lnTo>
                  <a:pt x="1830" y="2259"/>
                </a:lnTo>
                <a:lnTo>
                  <a:pt x="915" y="14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71280"/>
            <a:ext cx="4249800" cy="2519640"/>
          </a:xfrm>
          <a:custGeom>
            <a:avLst/>
            <a:gdLst/>
            <a:ahLst/>
            <a:rect l="l" t="t" r="r" b="b"/>
            <a:pathLst>
              <a:path w="2677" h="1587">
                <a:moveTo>
                  <a:pt x="6" y="1587"/>
                </a:moveTo>
                <a:lnTo>
                  <a:pt x="2677" y="1584"/>
                </a:lnTo>
                <a:lnTo>
                  <a:pt x="907" y="0"/>
                </a:lnTo>
                <a:lnTo>
                  <a:pt x="0" y="156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6840" y="76320"/>
            <a:ext cx="5715360" cy="6095520"/>
            <a:chOff x="456840" y="76320"/>
            <a:chExt cx="5715360" cy="6095520"/>
          </a:xfrm>
        </p:grpSpPr>
        <p:grpSp>
          <p:nvGrpSpPr>
            <p:cNvPr id="289" name=""/>
            <p:cNvGrpSpPr/>
            <p:nvPr/>
          </p:nvGrpSpPr>
          <p:grpSpPr>
            <a:xfrm>
              <a:off x="457200" y="2573280"/>
              <a:ext cx="5688000" cy="1100880"/>
              <a:chOff x="457200" y="2573280"/>
              <a:chExt cx="5688000" cy="1100880"/>
            </a:xfrm>
          </p:grpSpPr>
          <p:sp>
            <p:nvSpPr>
              <p:cNvPr id="290" name=""/>
              <p:cNvSpPr/>
              <p:nvPr/>
            </p:nvSpPr>
            <p:spPr>
              <a:xfrm>
                <a:off x="469800" y="2573280"/>
                <a:ext cx="5675400" cy="1071000"/>
              </a:xfrm>
              <a:custGeom>
                <a:avLst/>
                <a:gdLst/>
                <a:ahLst/>
                <a:rect l="l" t="t" r="r" b="b"/>
                <a:pathLst>
                  <a:path w="3575" h="675">
                    <a:moveTo>
                      <a:pt x="0" y="675"/>
                    </a:moveTo>
                    <a:lnTo>
                      <a:pt x="890" y="0"/>
                    </a:lnTo>
                    <a:lnTo>
                      <a:pt x="3575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7200" y="2599920"/>
                <a:ext cx="5688000" cy="1074240"/>
              </a:xfrm>
              <a:custGeom>
                <a:avLst/>
                <a:gdLst/>
                <a:ahLst/>
                <a:rect l="l" t="t" r="r" b="b"/>
                <a:pathLst>
                  <a:path w="3583" h="677">
                    <a:moveTo>
                      <a:pt x="0" y="666"/>
                    </a:moveTo>
                    <a:lnTo>
                      <a:pt x="2694" y="677"/>
                    </a:lnTo>
                    <a:lnTo>
                      <a:pt x="3583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1879560" y="76320"/>
              <a:ext cx="1447920" cy="25142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76320"/>
              <a:ext cx="281952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76320"/>
              <a:ext cx="137160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56840" y="76320"/>
              <a:ext cx="289548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52680" y="3657600"/>
              <a:ext cx="137160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352680" y="2590560"/>
              <a:ext cx="281952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56840" y="3657600"/>
              <a:ext cx="289548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2590560"/>
              <a:ext cx="1447560" cy="35812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387600" y="2585880"/>
            <a:ext cx="2822760" cy="3522960"/>
          </a:xfrm>
          <a:custGeom>
            <a:avLst/>
            <a:gdLst/>
            <a:ahLst/>
            <a:rect l="l" t="t" r="r" b="b"/>
            <a:pathLst>
              <a:path w="1778" h="2219">
                <a:moveTo>
                  <a:pt x="1770" y="3"/>
                </a:moveTo>
                <a:lnTo>
                  <a:pt x="855" y="669"/>
                </a:lnTo>
                <a:lnTo>
                  <a:pt x="0" y="2219"/>
                </a:lnTo>
                <a:lnTo>
                  <a:pt x="0" y="2219"/>
                </a:lnTo>
                <a:lnTo>
                  <a:pt x="1778" y="0"/>
                </a:lnTo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9800" y="71280"/>
            <a:ext cx="2892600" cy="3576960"/>
          </a:xfrm>
          <a:custGeom>
            <a:avLst/>
            <a:gdLst/>
            <a:ahLst/>
            <a:rect l="l" t="t" r="r" b="b"/>
            <a:pathLst>
              <a:path w="1822" h="2253">
                <a:moveTo>
                  <a:pt x="872" y="1587"/>
                </a:moveTo>
                <a:lnTo>
                  <a:pt x="0" y="2253"/>
                </a:lnTo>
                <a:lnTo>
                  <a:pt x="1822" y="0"/>
                </a:lnTo>
                <a:lnTo>
                  <a:pt x="881" y="159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6840" y="76320"/>
            <a:ext cx="5715360" cy="6095520"/>
            <a:chOff x="456840" y="76320"/>
            <a:chExt cx="5715360" cy="6095520"/>
          </a:xfrm>
        </p:grpSpPr>
        <p:grpSp>
          <p:nvGrpSpPr>
            <p:cNvPr id="303" name=""/>
            <p:cNvGrpSpPr/>
            <p:nvPr/>
          </p:nvGrpSpPr>
          <p:grpSpPr>
            <a:xfrm>
              <a:off x="457200" y="2573280"/>
              <a:ext cx="5688000" cy="1100880"/>
              <a:chOff x="457200" y="2573280"/>
              <a:chExt cx="5688000" cy="1100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9800" y="2573280"/>
                <a:ext cx="5675400" cy="1071000"/>
              </a:xfrm>
              <a:custGeom>
                <a:avLst/>
                <a:gdLst/>
                <a:ahLst/>
                <a:rect l="l" t="t" r="r" b="b"/>
                <a:pathLst>
                  <a:path w="3575" h="675">
                    <a:moveTo>
                      <a:pt x="0" y="675"/>
                    </a:moveTo>
                    <a:lnTo>
                      <a:pt x="890" y="0"/>
                    </a:lnTo>
                    <a:lnTo>
                      <a:pt x="3575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7200" y="2599920"/>
                <a:ext cx="5688000" cy="1074240"/>
              </a:xfrm>
              <a:custGeom>
                <a:avLst/>
                <a:gdLst/>
                <a:ahLst/>
                <a:rect l="l" t="t" r="r" b="b"/>
                <a:pathLst>
                  <a:path w="3583" h="677">
                    <a:moveTo>
                      <a:pt x="0" y="666"/>
                    </a:moveTo>
                    <a:lnTo>
                      <a:pt x="2694" y="677"/>
                    </a:lnTo>
                    <a:lnTo>
                      <a:pt x="3583" y="0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H="1">
              <a:off x="1879560" y="76320"/>
              <a:ext cx="1447920" cy="25142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2680" y="76320"/>
              <a:ext cx="281952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2680" y="76320"/>
              <a:ext cx="137160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56840" y="76320"/>
              <a:ext cx="289548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352680" y="3657600"/>
              <a:ext cx="137160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352680" y="2590560"/>
              <a:ext cx="2819520" cy="358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56840" y="3657600"/>
              <a:ext cx="2895480" cy="251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5120" y="2590560"/>
              <a:ext cx="1447560" cy="35812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7200" y="76320"/>
            <a:ext cx="4267080" cy="3581280"/>
          </a:xfrm>
          <a:custGeom>
            <a:avLst/>
            <a:gdLst/>
            <a:ahLst/>
            <a:rect l="l" t="t" r="r" b="b"/>
            <a:pathLst>
              <a:path w="2685" h="2259">
                <a:moveTo>
                  <a:pt x="0" y="2259"/>
                </a:moveTo>
                <a:lnTo>
                  <a:pt x="2685" y="2253"/>
                </a:lnTo>
                <a:lnTo>
                  <a:pt x="1813" y="0"/>
                </a:lnTo>
                <a:lnTo>
                  <a:pt x="0" y="2245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4840" y="3670200"/>
            <a:ext cx="4249440" cy="2502000"/>
          </a:xfrm>
          <a:custGeom>
            <a:avLst/>
            <a:gdLst/>
            <a:ahLst/>
            <a:rect l="l" t="t" r="r" b="b"/>
            <a:pathLst>
              <a:path w="2677" h="1576">
                <a:moveTo>
                  <a:pt x="0" y="6"/>
                </a:moveTo>
                <a:lnTo>
                  <a:pt x="1821" y="1576"/>
                </a:lnTo>
                <a:lnTo>
                  <a:pt x="2677" y="0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71280"/>
            <a:ext cx="2836800" cy="3576960"/>
          </a:xfrm>
          <a:custGeom>
            <a:avLst/>
            <a:gdLst/>
            <a:ahLst/>
            <a:rect l="l" t="t" r="r" b="b"/>
            <a:pathLst>
              <a:path w="1787" h="2253">
                <a:moveTo>
                  <a:pt x="1779" y="1587"/>
                </a:moveTo>
                <a:lnTo>
                  <a:pt x="873" y="2253"/>
                </a:lnTo>
                <a:lnTo>
                  <a:pt x="0" y="0"/>
                </a:lnTo>
                <a:lnTo>
                  <a:pt x="1787" y="1584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71720" y="58356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4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bát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7632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838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28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858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280" y="4541760"/>
            <a:ext cx="146844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82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583400">
            <a:off x="8524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049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67200" y="2274120"/>
            <a:ext cx="3549600" cy="3565440"/>
            <a:chOff x="367200" y="2274120"/>
            <a:chExt cx="3549600" cy="3565440"/>
          </a:xfrm>
        </p:grpSpPr>
        <p:sp>
          <p:nvSpPr>
            <p:cNvPr id="329" name=""/>
            <p:cNvSpPr/>
            <p:nvPr/>
          </p:nvSpPr>
          <p:spPr>
            <a:xfrm>
              <a:off x="9316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83400">
              <a:off x="8683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1006600">
              <a:off x="6091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1380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7027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2232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90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3699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699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9383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2362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27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636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90480" y="2500200"/>
            <a:ext cx="1454400" cy="130356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5766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22200" y="51768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5640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289548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bbe0e3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71520" y="54864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5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12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483280" y="-75240"/>
            <a:ext cx="3549600" cy="3565440"/>
            <a:chOff x="2483280" y="-75240"/>
            <a:chExt cx="3549600" cy="3565440"/>
          </a:xfrm>
        </p:grpSpPr>
        <p:sp>
          <p:nvSpPr>
            <p:cNvPr id="350" name=""/>
            <p:cNvSpPr/>
            <p:nvPr/>
          </p:nvSpPr>
          <p:spPr>
            <a:xfrm>
              <a:off x="3047760" y="52884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9583400">
              <a:off x="2984400" y="56952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1006600">
              <a:off x="2725200" y="16524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254120" y="16524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2818800" y="123156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39360" y="284508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5160" y="281952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486040" y="123192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04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067000" y="47016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3301560" y="456840"/>
              <a:ext cx="228600" cy="3049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1880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79680" y="30481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641340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452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56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15080" y="4541760"/>
            <a:ext cx="146808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880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9583400">
            <a:off x="51022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547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17000" y="2274120"/>
            <a:ext cx="3549600" cy="3565440"/>
            <a:chOff x="4617000" y="2274120"/>
            <a:chExt cx="3549600" cy="3565440"/>
          </a:xfrm>
        </p:grpSpPr>
        <p:sp>
          <p:nvSpPr>
            <p:cNvPr id="372" name=""/>
            <p:cNvSpPr/>
            <p:nvPr/>
          </p:nvSpPr>
          <p:spPr>
            <a:xfrm>
              <a:off x="51814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9583400">
              <a:off x="51181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1006600">
              <a:off x="48589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878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49525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730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6197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197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881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54860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9525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134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932360" y="2487600"/>
            <a:ext cx="1454040" cy="130320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9756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26280" y="35640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64080" y="51642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27680" y="35514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290520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4000"/>
                            </p:stCondLst>
                            <p:childTnLst>
                              <p:par>
                                <p:cTn id="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8000"/>
                            </p:stCondLst>
                            <p:childTnLst>
                              <p:par>
                                <p:cTn id="6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0"/>
                            </p:stCondLst>
                            <p:childTnLst>
                              <p:par>
                                <p:cTn id="6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954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858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5280" y="4541760"/>
            <a:ext cx="146844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82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583400">
            <a:off x="8524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049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7200" y="2274120"/>
            <a:ext cx="3549600" cy="3565440"/>
            <a:chOff x="367200" y="2274120"/>
            <a:chExt cx="3549600" cy="3565440"/>
          </a:xfrm>
        </p:grpSpPr>
        <p:sp>
          <p:nvSpPr>
            <p:cNvPr id="398" name=""/>
            <p:cNvSpPr/>
            <p:nvPr/>
          </p:nvSpPr>
          <p:spPr>
            <a:xfrm>
              <a:off x="9316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9583400">
              <a:off x="8683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1006600">
              <a:off x="6091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1380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7027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232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890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3699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99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9383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2362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27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36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90480" y="2500200"/>
            <a:ext cx="1454400" cy="130356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3372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35766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22200" y="51768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5640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289548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bbe0e3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71520" y="54864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5;3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12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83280" y="-75240"/>
            <a:ext cx="3549600" cy="3565440"/>
            <a:chOff x="2483280" y="-75240"/>
            <a:chExt cx="3549600" cy="3565440"/>
          </a:xfrm>
        </p:grpSpPr>
        <p:sp>
          <p:nvSpPr>
            <p:cNvPr id="419" name=""/>
            <p:cNvSpPr/>
            <p:nvPr/>
          </p:nvSpPr>
          <p:spPr>
            <a:xfrm>
              <a:off x="3047760" y="52884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9583400">
              <a:off x="2984400" y="56952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1006600">
              <a:off x="2725200" y="16524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254120" y="16524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818800" y="123156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339360" y="284508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160" y="281952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486040" y="123192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604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067000" y="47016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301560" y="456840"/>
              <a:ext cx="228600" cy="3049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818800" y="22226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9680" y="30481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641340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8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45280" y="2771640"/>
            <a:ext cx="704880" cy="1798920"/>
          </a:xfrm>
          <a:custGeom>
            <a:avLst/>
            <a:gdLst/>
            <a:ahLst/>
            <a:rect l="l" t="t" r="r" b="b"/>
            <a:pathLst>
              <a:path w="444" h="1133">
                <a:moveTo>
                  <a:pt x="287" y="1126"/>
                </a:moveTo>
                <a:lnTo>
                  <a:pt x="425" y="1133"/>
                </a:lnTo>
                <a:lnTo>
                  <a:pt x="444" y="491"/>
                </a:lnTo>
                <a:lnTo>
                  <a:pt x="104" y="0"/>
                </a:lnTo>
                <a:lnTo>
                  <a:pt x="0" y="198"/>
                </a:lnTo>
                <a:lnTo>
                  <a:pt x="0" y="198"/>
                </a:lnTo>
                <a:lnTo>
                  <a:pt x="283" y="113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35640" y="4559400"/>
            <a:ext cx="1447920" cy="1066680"/>
          </a:xfrm>
          <a:custGeom>
            <a:avLst/>
            <a:gdLst/>
            <a:ahLst/>
            <a:rect l="l" t="t" r="r" b="b"/>
            <a:pathLst>
              <a:path w="924" h="661">
                <a:moveTo>
                  <a:pt x="0" y="540"/>
                </a:moveTo>
                <a:lnTo>
                  <a:pt x="8" y="661"/>
                </a:lnTo>
                <a:lnTo>
                  <a:pt x="584" y="472"/>
                </a:lnTo>
                <a:lnTo>
                  <a:pt x="924" y="19"/>
                </a:lnTo>
                <a:lnTo>
                  <a:pt x="792" y="0"/>
                </a:lnTo>
                <a:lnTo>
                  <a:pt x="8" y="557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15080" y="4541760"/>
            <a:ext cx="1468080" cy="1084320"/>
          </a:xfrm>
          <a:custGeom>
            <a:avLst/>
            <a:gdLst/>
            <a:ahLst/>
            <a:rect l="l" t="t" r="r" b="b"/>
            <a:pathLst>
              <a:path w="916" h="661">
                <a:moveTo>
                  <a:pt x="19" y="19"/>
                </a:moveTo>
                <a:lnTo>
                  <a:pt x="189" y="0"/>
                </a:lnTo>
                <a:lnTo>
                  <a:pt x="916" y="510"/>
                </a:lnTo>
                <a:lnTo>
                  <a:pt x="916" y="661"/>
                </a:lnTo>
                <a:lnTo>
                  <a:pt x="321" y="444"/>
                </a:lnTo>
                <a:lnTo>
                  <a:pt x="0" y="10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88080" y="2801880"/>
            <a:ext cx="812520" cy="1771560"/>
          </a:xfrm>
          <a:custGeom>
            <a:avLst/>
            <a:gdLst/>
            <a:ahLst/>
            <a:rect l="l" t="t" r="r" b="b"/>
            <a:pathLst>
              <a:path w="476" h="1114">
                <a:moveTo>
                  <a:pt x="476" y="195"/>
                </a:moveTo>
                <a:lnTo>
                  <a:pt x="330" y="0"/>
                </a:lnTo>
                <a:lnTo>
                  <a:pt x="0" y="472"/>
                </a:lnTo>
                <a:lnTo>
                  <a:pt x="0" y="472"/>
                </a:lnTo>
                <a:lnTo>
                  <a:pt x="19" y="1105"/>
                </a:lnTo>
                <a:lnTo>
                  <a:pt x="19" y="1105"/>
                </a:lnTo>
                <a:lnTo>
                  <a:pt x="188" y="1114"/>
                </a:lnTo>
                <a:lnTo>
                  <a:pt x="472" y="198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9583400">
            <a:off x="5102280" y="2919240"/>
            <a:ext cx="2455920" cy="2325960"/>
          </a:xfrm>
          <a:custGeom>
            <a:avLst/>
            <a:gdLst/>
            <a:ahLst/>
            <a:rect l="l" t="t" r="r" b="b"/>
            <a:pathLst>
              <a:path w="1547" h="1465">
                <a:moveTo>
                  <a:pt x="0" y="587"/>
                </a:moveTo>
                <a:lnTo>
                  <a:pt x="751" y="0"/>
                </a:lnTo>
                <a:lnTo>
                  <a:pt x="1547" y="533"/>
                </a:lnTo>
                <a:lnTo>
                  <a:pt x="1285" y="1440"/>
                </a:lnTo>
                <a:lnTo>
                  <a:pt x="336" y="1465"/>
                </a:lnTo>
                <a:lnTo>
                  <a:pt x="6" y="58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54720" y="2502000"/>
            <a:ext cx="1828800" cy="623880"/>
          </a:xfrm>
          <a:custGeom>
            <a:avLst/>
            <a:gdLst/>
            <a:ahLst/>
            <a:rect l="l" t="t" r="r" b="b"/>
            <a:pathLst>
              <a:path w="1203" h="415">
                <a:moveTo>
                  <a:pt x="8" y="225"/>
                </a:moveTo>
                <a:lnTo>
                  <a:pt x="602" y="0"/>
                </a:lnTo>
                <a:lnTo>
                  <a:pt x="1203" y="203"/>
                </a:lnTo>
                <a:lnTo>
                  <a:pt x="1119" y="415"/>
                </a:lnTo>
                <a:lnTo>
                  <a:pt x="161" y="415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617000" y="2274120"/>
            <a:ext cx="3549600" cy="3565440"/>
            <a:chOff x="4617000" y="2274120"/>
            <a:chExt cx="3549600" cy="3565440"/>
          </a:xfrm>
        </p:grpSpPr>
        <p:sp>
          <p:nvSpPr>
            <p:cNvPr id="441" name=""/>
            <p:cNvSpPr/>
            <p:nvPr/>
          </p:nvSpPr>
          <p:spPr>
            <a:xfrm>
              <a:off x="5181480" y="2878200"/>
              <a:ext cx="2455920" cy="232560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9583400">
              <a:off x="5118120" y="2918880"/>
              <a:ext cx="2455560" cy="2325960"/>
            </a:xfrm>
            <a:custGeom>
              <a:avLst/>
              <a:gdLst/>
              <a:ahLst/>
              <a:rect l="l" t="t" r="r" b="b"/>
              <a:pathLst>
                <a:path w="1547" h="1465">
                  <a:moveTo>
                    <a:pt x="0" y="587"/>
                  </a:moveTo>
                  <a:lnTo>
                    <a:pt x="751" y="0"/>
                  </a:lnTo>
                  <a:lnTo>
                    <a:pt x="1547" y="533"/>
                  </a:lnTo>
                  <a:lnTo>
                    <a:pt x="1285" y="1440"/>
                  </a:lnTo>
                  <a:lnTo>
                    <a:pt x="336" y="1465"/>
                  </a:lnTo>
                  <a:lnTo>
                    <a:pt x="6" y="58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006600">
              <a:off x="4858920" y="2514600"/>
              <a:ext cx="3065400" cy="3084480"/>
            </a:xfrm>
            <a:custGeom>
              <a:avLst/>
              <a:gdLst/>
              <a:ahLst/>
              <a:rect l="l" t="t" r="r" b="b"/>
              <a:pathLst>
                <a:path w="1931" h="1943">
                  <a:moveTo>
                    <a:pt x="104" y="503"/>
                  </a:moveTo>
                  <a:lnTo>
                    <a:pt x="525" y="102"/>
                  </a:lnTo>
                  <a:lnTo>
                    <a:pt x="1135" y="0"/>
                  </a:lnTo>
                  <a:lnTo>
                    <a:pt x="1677" y="291"/>
                  </a:lnTo>
                  <a:lnTo>
                    <a:pt x="1931" y="825"/>
                  </a:lnTo>
                  <a:lnTo>
                    <a:pt x="1812" y="1434"/>
                  </a:lnTo>
                  <a:lnTo>
                    <a:pt x="1389" y="1849"/>
                  </a:lnTo>
                  <a:lnTo>
                    <a:pt x="813" y="1943"/>
                  </a:lnTo>
                  <a:lnTo>
                    <a:pt x="262" y="1638"/>
                  </a:lnTo>
                  <a:lnTo>
                    <a:pt x="0" y="1146"/>
                  </a:lnTo>
                  <a:lnTo>
                    <a:pt x="110" y="50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387840" y="251460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952520" y="3580920"/>
              <a:ext cx="2286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73080" y="5194440"/>
              <a:ext cx="2286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38880" y="516888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619760" y="3581280"/>
              <a:ext cx="22860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1976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88120" y="2819520"/>
              <a:ext cx="12708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5486040" y="2819520"/>
              <a:ext cx="228600" cy="3045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952520" y="457200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13400" y="539748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932360" y="2487600"/>
            <a:ext cx="1454040" cy="1303200"/>
          </a:xfrm>
          <a:custGeom>
            <a:avLst/>
            <a:gdLst/>
            <a:ahLst/>
            <a:rect l="l" t="t" r="r" b="b"/>
            <a:pathLst>
              <a:path w="916" h="821">
                <a:moveTo>
                  <a:pt x="8" y="657"/>
                </a:moveTo>
                <a:lnTo>
                  <a:pt x="321" y="207"/>
                </a:lnTo>
                <a:lnTo>
                  <a:pt x="916" y="0"/>
                </a:lnTo>
                <a:lnTo>
                  <a:pt x="916" y="255"/>
                </a:lnTo>
                <a:lnTo>
                  <a:pt x="161" y="821"/>
                </a:lnTo>
                <a:lnTo>
                  <a:pt x="0" y="661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2502000"/>
            <a:ext cx="1484280" cy="1197000"/>
          </a:xfrm>
          <a:custGeom>
            <a:avLst/>
            <a:gdLst/>
            <a:ahLst/>
            <a:rect l="l" t="t" r="r" b="b"/>
            <a:pathLst>
              <a:path w="935" h="754">
                <a:moveTo>
                  <a:pt x="0" y="0"/>
                </a:moveTo>
                <a:lnTo>
                  <a:pt x="3" y="254"/>
                </a:lnTo>
                <a:lnTo>
                  <a:pt x="799" y="754"/>
                </a:lnTo>
                <a:lnTo>
                  <a:pt x="935" y="686"/>
                </a:lnTo>
                <a:lnTo>
                  <a:pt x="604" y="178"/>
                </a:lnTo>
                <a:lnTo>
                  <a:pt x="20" y="8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26280" y="3564000"/>
            <a:ext cx="631800" cy="1735200"/>
          </a:xfrm>
          <a:custGeom>
            <a:avLst/>
            <a:gdLst/>
            <a:ahLst/>
            <a:rect l="l" t="t" r="r" b="b"/>
            <a:pathLst>
              <a:path w="398" h="1093">
                <a:moveTo>
                  <a:pt x="240" y="99"/>
                </a:moveTo>
                <a:lnTo>
                  <a:pt x="398" y="0"/>
                </a:lnTo>
                <a:lnTo>
                  <a:pt x="390" y="619"/>
                </a:lnTo>
                <a:lnTo>
                  <a:pt x="59" y="1093"/>
                </a:lnTo>
                <a:lnTo>
                  <a:pt x="0" y="1008"/>
                </a:lnTo>
                <a:lnTo>
                  <a:pt x="254" y="85"/>
                </a:lnTo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64080" y="5164200"/>
            <a:ext cx="1870200" cy="461880"/>
          </a:xfrm>
          <a:custGeom>
            <a:avLst/>
            <a:gdLst/>
            <a:ahLst/>
            <a:rect l="l" t="t" r="r" b="b"/>
            <a:pathLst>
              <a:path w="1178" h="291">
                <a:moveTo>
                  <a:pt x="582" y="291"/>
                </a:moveTo>
                <a:lnTo>
                  <a:pt x="1178" y="93"/>
                </a:lnTo>
                <a:lnTo>
                  <a:pt x="1110" y="0"/>
                </a:lnTo>
                <a:lnTo>
                  <a:pt x="144" y="17"/>
                </a:lnTo>
                <a:lnTo>
                  <a:pt x="144" y="17"/>
                </a:lnTo>
                <a:lnTo>
                  <a:pt x="0" y="76"/>
                </a:lnTo>
                <a:lnTo>
                  <a:pt x="576" y="28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27680" y="3551400"/>
            <a:ext cx="765000" cy="1720800"/>
          </a:xfrm>
          <a:custGeom>
            <a:avLst/>
            <a:gdLst/>
            <a:ahLst/>
            <a:rect l="l" t="t" r="r" b="b"/>
            <a:pathLst>
              <a:path w="482" h="1084">
                <a:moveTo>
                  <a:pt x="8" y="11"/>
                </a:moveTo>
                <a:lnTo>
                  <a:pt x="169" y="144"/>
                </a:lnTo>
                <a:lnTo>
                  <a:pt x="482" y="1025"/>
                </a:lnTo>
                <a:lnTo>
                  <a:pt x="338" y="1084"/>
                </a:lnTo>
                <a:lnTo>
                  <a:pt x="8" y="6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2905200"/>
            <a:ext cx="2448000" cy="2286000"/>
          </a:xfrm>
          <a:custGeom>
            <a:avLst/>
            <a:gdLst/>
            <a:ahLst/>
            <a:rect l="l" t="t" r="r" b="b"/>
            <a:pathLst>
              <a:path w="1542" h="1440">
                <a:moveTo>
                  <a:pt x="0" y="576"/>
                </a:moveTo>
                <a:lnTo>
                  <a:pt x="771" y="0"/>
                </a:lnTo>
                <a:lnTo>
                  <a:pt x="1542" y="482"/>
                </a:lnTo>
                <a:lnTo>
                  <a:pt x="1279" y="1423"/>
                </a:lnTo>
                <a:lnTo>
                  <a:pt x="330" y="1440"/>
                </a:lnTo>
                <a:lnTo>
                  <a:pt x="0" y="567"/>
                </a:lnTo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8000"/>
                            </p:stCondLst>
                            <p:childTnLst>
                              <p:par>
                                <p:cTn id="7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7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6000"/>
                            </p:stCondLst>
                            <p:childTnLst>
                              <p:par>
                                <p:cTn id="7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80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2000"/>
                            </p:stCondLst>
                            <p:childTnLst>
                              <p:par>
                                <p:cTn id="7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4000"/>
                            </p:stCondLst>
                            <p:childTnLst>
                              <p:par>
                                <p:cTn id="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6000"/>
                            </p:stCondLst>
                            <p:childTnLst>
                              <p:par>
                                <p:cTn id="7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8000"/>
                            </p:stCondLst>
                            <p:childTnLst>
                              <p:par>
                                <p:cTn id="7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0"/>
                            </p:stCondLst>
                            <p:childTnLst>
                              <p:par>
                                <p:cTn id="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5240" y="-76320"/>
            <a:ext cx="3743280" cy="3171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176640" y="579132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ối đa diện này có tên là khối {3;5}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òn gọi là khối 20 mặt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5760" y="3371760"/>
            <a:ext cx="1452600" cy="1447920"/>
          </a:xfrm>
          <a:custGeom>
            <a:avLst/>
            <a:gdLst/>
            <a:ahLst/>
            <a:rect l="l" t="t" r="r" b="b"/>
            <a:pathLst>
              <a:path w="915" h="912">
                <a:moveTo>
                  <a:pt x="915" y="0"/>
                </a:moveTo>
                <a:lnTo>
                  <a:pt x="907" y="912"/>
                </a:lnTo>
                <a:lnTo>
                  <a:pt x="0" y="217"/>
                </a:lnTo>
                <a:lnTo>
                  <a:pt x="915" y="2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86000"/>
            <a:ext cx="868320" cy="1843200"/>
          </a:xfrm>
          <a:custGeom>
            <a:avLst/>
            <a:gdLst/>
            <a:ahLst/>
            <a:rect l="l" t="t" r="r" b="b"/>
            <a:pathLst>
              <a:path w="547" h="1161">
                <a:moveTo>
                  <a:pt x="4" y="9"/>
                </a:moveTo>
                <a:lnTo>
                  <a:pt x="141" y="1161"/>
                </a:lnTo>
                <a:lnTo>
                  <a:pt x="547" y="925"/>
                </a:lnTo>
                <a:lnTo>
                  <a:pt x="0" y="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30440" y="4129200"/>
            <a:ext cx="1244520" cy="1065240"/>
          </a:xfrm>
          <a:custGeom>
            <a:avLst/>
            <a:gdLst/>
            <a:ahLst/>
            <a:rect l="l" t="t" r="r" b="b"/>
            <a:pathLst>
              <a:path w="784" h="671">
                <a:moveTo>
                  <a:pt x="782" y="12"/>
                </a:moveTo>
                <a:lnTo>
                  <a:pt x="642" y="671"/>
                </a:lnTo>
                <a:lnTo>
                  <a:pt x="0" y="435"/>
                </a:lnTo>
                <a:lnTo>
                  <a:pt x="784" y="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49600" y="3770280"/>
            <a:ext cx="869760" cy="1408320"/>
          </a:xfrm>
          <a:custGeom>
            <a:avLst/>
            <a:gdLst/>
            <a:ahLst/>
            <a:rect l="l" t="t" r="r" b="b"/>
            <a:pathLst>
              <a:path w="548" h="887">
                <a:moveTo>
                  <a:pt x="161" y="217"/>
                </a:moveTo>
                <a:lnTo>
                  <a:pt x="0" y="887"/>
                </a:lnTo>
                <a:lnTo>
                  <a:pt x="548" y="0"/>
                </a:lnTo>
                <a:lnTo>
                  <a:pt x="151" y="22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30440" y="3394080"/>
            <a:ext cx="1241280" cy="1424160"/>
          </a:xfrm>
          <a:custGeom>
            <a:avLst/>
            <a:gdLst/>
            <a:ahLst/>
            <a:rect l="l" t="t" r="r" b="b"/>
            <a:pathLst>
              <a:path w="793" h="897">
                <a:moveTo>
                  <a:pt x="14" y="4"/>
                </a:moveTo>
                <a:lnTo>
                  <a:pt x="793" y="444"/>
                </a:lnTo>
                <a:lnTo>
                  <a:pt x="19" y="89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6040" y="2300400"/>
            <a:ext cx="1258920" cy="1784160"/>
          </a:xfrm>
          <a:custGeom>
            <a:avLst/>
            <a:gdLst/>
            <a:ahLst/>
            <a:rect l="l" t="t" r="r" b="b"/>
            <a:pathLst>
              <a:path w="793" h="1124">
                <a:moveTo>
                  <a:pt x="14" y="684"/>
                </a:moveTo>
                <a:lnTo>
                  <a:pt x="680" y="0"/>
                </a:lnTo>
                <a:lnTo>
                  <a:pt x="793" y="1124"/>
                </a:lnTo>
                <a:lnTo>
                  <a:pt x="0" y="68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81000" y="2305080"/>
            <a:ext cx="1712880" cy="1143000"/>
          </a:xfrm>
          <a:custGeom>
            <a:avLst/>
            <a:gdLst/>
            <a:ahLst/>
            <a:rect l="l" t="t" r="r" b="b"/>
            <a:pathLst>
              <a:path w="1079" h="715">
                <a:moveTo>
                  <a:pt x="0" y="0"/>
                </a:moveTo>
                <a:lnTo>
                  <a:pt x="399" y="715"/>
                </a:lnTo>
                <a:lnTo>
                  <a:pt x="1079" y="17"/>
                </a:lnTo>
                <a:lnTo>
                  <a:pt x="50" y="26"/>
                </a:ln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6040" y="2330280"/>
            <a:ext cx="1440000" cy="1454400"/>
          </a:xfrm>
          <a:custGeom>
            <a:avLst/>
            <a:gdLst/>
            <a:ahLst/>
            <a:rect l="l" t="t" r="r" b="b"/>
            <a:pathLst>
              <a:path w="907" h="916">
                <a:moveTo>
                  <a:pt x="9" y="905"/>
                </a:moveTo>
                <a:lnTo>
                  <a:pt x="907" y="680"/>
                </a:lnTo>
                <a:lnTo>
                  <a:pt x="510" y="0"/>
                </a:lnTo>
                <a:lnTo>
                  <a:pt x="0" y="916"/>
                </a:lnTo>
              </a:path>
            </a:pathLst>
          </a:custGeom>
          <a:gradFill rotWithShape="0">
            <a:gsLst>
              <a:gs pos="0">
                <a:srgbClr val="00755e"/>
              </a:gs>
              <a:gs pos="100000">
                <a:srgbClr val="00ffcc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04840" y="3767040"/>
            <a:ext cx="1469880" cy="1411560"/>
          </a:xfrm>
          <a:custGeom>
            <a:avLst/>
            <a:gdLst/>
            <a:ahLst/>
            <a:rect l="l" t="t" r="r" b="b"/>
            <a:pathLst>
              <a:path w="926" h="889">
                <a:moveTo>
                  <a:pt x="9" y="0"/>
                </a:moveTo>
                <a:lnTo>
                  <a:pt x="926" y="681"/>
                </a:lnTo>
                <a:lnTo>
                  <a:pt x="529" y="889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15920" y="4834080"/>
            <a:ext cx="1663920" cy="390240"/>
          </a:xfrm>
          <a:custGeom>
            <a:avLst/>
            <a:gdLst/>
            <a:ahLst/>
            <a:rect l="l" t="t" r="r" b="b"/>
            <a:pathLst>
              <a:path w="1048" h="246">
                <a:moveTo>
                  <a:pt x="8" y="231"/>
                </a:moveTo>
                <a:lnTo>
                  <a:pt x="397" y="0"/>
                </a:lnTo>
                <a:lnTo>
                  <a:pt x="1048" y="246"/>
                </a:lnTo>
                <a:lnTo>
                  <a:pt x="0" y="236"/>
                </a:lnTo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3" action="ppaction://hlinksldjump"/>
          </p:cNvPr>
          <p:cNvSpPr/>
          <p:nvPr/>
        </p:nvSpPr>
        <p:spPr>
          <a:xfrm>
            <a:off x="698400" y="62485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6386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ên g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02160" y="3343320"/>
            <a:ext cx="1452600" cy="1447920"/>
          </a:xfrm>
          <a:custGeom>
            <a:avLst/>
            <a:gdLst/>
            <a:ahLst/>
            <a:rect l="l" t="t" r="r" b="b"/>
            <a:pathLst>
              <a:path w="915" h="912">
                <a:moveTo>
                  <a:pt x="915" y="0"/>
                </a:moveTo>
                <a:lnTo>
                  <a:pt x="907" y="912"/>
                </a:lnTo>
                <a:lnTo>
                  <a:pt x="0" y="217"/>
                </a:lnTo>
                <a:lnTo>
                  <a:pt x="915" y="2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81840" y="2243160"/>
            <a:ext cx="868320" cy="1843200"/>
          </a:xfrm>
          <a:custGeom>
            <a:avLst/>
            <a:gdLst/>
            <a:ahLst/>
            <a:rect l="l" t="t" r="r" b="b"/>
            <a:pathLst>
              <a:path w="547" h="1161">
                <a:moveTo>
                  <a:pt x="4" y="9"/>
                </a:moveTo>
                <a:lnTo>
                  <a:pt x="141" y="1161"/>
                </a:lnTo>
                <a:lnTo>
                  <a:pt x="547" y="925"/>
                </a:lnTo>
                <a:lnTo>
                  <a:pt x="0" y="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6840" y="4086360"/>
            <a:ext cx="1244520" cy="1065240"/>
          </a:xfrm>
          <a:custGeom>
            <a:avLst/>
            <a:gdLst/>
            <a:ahLst/>
            <a:rect l="l" t="t" r="r" b="b"/>
            <a:pathLst>
              <a:path w="784" h="671">
                <a:moveTo>
                  <a:pt x="782" y="12"/>
                </a:moveTo>
                <a:lnTo>
                  <a:pt x="642" y="671"/>
                </a:lnTo>
                <a:lnTo>
                  <a:pt x="0" y="435"/>
                </a:lnTo>
                <a:lnTo>
                  <a:pt x="784" y="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66000" y="3727440"/>
            <a:ext cx="870120" cy="1407960"/>
          </a:xfrm>
          <a:custGeom>
            <a:avLst/>
            <a:gdLst/>
            <a:ahLst/>
            <a:rect l="l" t="t" r="r" b="b"/>
            <a:pathLst>
              <a:path w="548" h="887">
                <a:moveTo>
                  <a:pt x="161" y="217"/>
                </a:moveTo>
                <a:lnTo>
                  <a:pt x="0" y="887"/>
                </a:lnTo>
                <a:lnTo>
                  <a:pt x="548" y="0"/>
                </a:lnTo>
                <a:lnTo>
                  <a:pt x="151" y="22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6840" y="3365640"/>
            <a:ext cx="1241640" cy="1423800"/>
          </a:xfrm>
          <a:custGeom>
            <a:avLst/>
            <a:gdLst/>
            <a:ahLst/>
            <a:rect l="l" t="t" r="r" b="b"/>
            <a:pathLst>
              <a:path w="793" h="897">
                <a:moveTo>
                  <a:pt x="14" y="4"/>
                </a:moveTo>
                <a:lnTo>
                  <a:pt x="793" y="444"/>
                </a:lnTo>
                <a:lnTo>
                  <a:pt x="19" y="897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32440" y="2257560"/>
            <a:ext cx="1258920" cy="1784160"/>
          </a:xfrm>
          <a:custGeom>
            <a:avLst/>
            <a:gdLst/>
            <a:ahLst/>
            <a:rect l="l" t="t" r="r" b="b"/>
            <a:pathLst>
              <a:path w="793" h="1124">
                <a:moveTo>
                  <a:pt x="14" y="684"/>
                </a:moveTo>
                <a:lnTo>
                  <a:pt x="680" y="0"/>
                </a:lnTo>
                <a:lnTo>
                  <a:pt x="793" y="1124"/>
                </a:lnTo>
                <a:lnTo>
                  <a:pt x="0" y="68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97760" y="2276640"/>
            <a:ext cx="1712880" cy="1143000"/>
          </a:xfrm>
          <a:custGeom>
            <a:avLst/>
            <a:gdLst/>
            <a:ahLst/>
            <a:rect l="l" t="t" r="r" b="b"/>
            <a:pathLst>
              <a:path w="1079" h="715">
                <a:moveTo>
                  <a:pt x="0" y="0"/>
                </a:moveTo>
                <a:lnTo>
                  <a:pt x="399" y="715"/>
                </a:lnTo>
                <a:lnTo>
                  <a:pt x="1079" y="17"/>
                </a:lnTo>
                <a:lnTo>
                  <a:pt x="50" y="26"/>
                </a:ln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92800" y="2287440"/>
            <a:ext cx="1439640" cy="1454400"/>
          </a:xfrm>
          <a:custGeom>
            <a:avLst/>
            <a:gdLst/>
            <a:ahLst/>
            <a:rect l="l" t="t" r="r" b="b"/>
            <a:pathLst>
              <a:path w="907" h="916">
                <a:moveTo>
                  <a:pt x="9" y="905"/>
                </a:moveTo>
                <a:lnTo>
                  <a:pt x="907" y="680"/>
                </a:lnTo>
                <a:lnTo>
                  <a:pt x="510" y="0"/>
                </a:lnTo>
                <a:lnTo>
                  <a:pt x="0" y="916"/>
                </a:lnTo>
              </a:path>
            </a:pathLst>
          </a:custGeom>
          <a:gradFill rotWithShape="0">
            <a:gsLst>
              <a:gs pos="0">
                <a:srgbClr val="00755e"/>
              </a:gs>
              <a:gs pos="100000">
                <a:srgbClr val="00ffcc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21240" y="3724200"/>
            <a:ext cx="1470240" cy="1411200"/>
          </a:xfrm>
          <a:custGeom>
            <a:avLst/>
            <a:gdLst/>
            <a:ahLst/>
            <a:rect l="l" t="t" r="r" b="b"/>
            <a:pathLst>
              <a:path w="926" h="889">
                <a:moveTo>
                  <a:pt x="9" y="0"/>
                </a:moveTo>
                <a:lnTo>
                  <a:pt x="926" y="681"/>
                </a:lnTo>
                <a:lnTo>
                  <a:pt x="529" y="889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232680" y="4724280"/>
            <a:ext cx="1663560" cy="390600"/>
          </a:xfrm>
          <a:custGeom>
            <a:avLst/>
            <a:gdLst/>
            <a:ahLst/>
            <a:rect l="l" t="t" r="r" b="b"/>
            <a:pathLst>
              <a:path w="1048" h="246">
                <a:moveTo>
                  <a:pt x="8" y="231"/>
                </a:moveTo>
                <a:lnTo>
                  <a:pt x="397" y="0"/>
                </a:lnTo>
                <a:lnTo>
                  <a:pt x="1048" y="246"/>
                </a:lnTo>
                <a:lnTo>
                  <a:pt x="0" y="236"/>
                </a:lnTo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5248440" y="2133720"/>
            <a:ext cx="3743280" cy="3171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935680" y="2260440"/>
            <a:ext cx="1278000" cy="1143000"/>
          </a:xfrm>
          <a:custGeom>
            <a:avLst/>
            <a:gdLst/>
            <a:ahLst/>
            <a:rect l="l" t="t" r="r" b="b"/>
            <a:pathLst>
              <a:path w="805" h="677">
                <a:moveTo>
                  <a:pt x="17" y="677"/>
                </a:moveTo>
                <a:lnTo>
                  <a:pt x="144" y="0"/>
                </a:lnTo>
                <a:lnTo>
                  <a:pt x="805" y="203"/>
                </a:lnTo>
                <a:lnTo>
                  <a:pt x="0" y="669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88040" y="2255760"/>
            <a:ext cx="1693800" cy="349200"/>
          </a:xfrm>
          <a:custGeom>
            <a:avLst/>
            <a:gdLst/>
            <a:ahLst/>
            <a:rect l="l" t="t" r="r" b="b"/>
            <a:pathLst>
              <a:path w="1067" h="220">
                <a:moveTo>
                  <a:pt x="0" y="3"/>
                </a:moveTo>
                <a:lnTo>
                  <a:pt x="661" y="220"/>
                </a:lnTo>
                <a:lnTo>
                  <a:pt x="1067" y="0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250040" y="2255760"/>
            <a:ext cx="1479600" cy="1452600"/>
          </a:xfrm>
          <a:custGeom>
            <a:avLst/>
            <a:gdLst/>
            <a:ahLst/>
            <a:rect l="l" t="t" r="r" b="b"/>
            <a:pathLst>
              <a:path w="932" h="915">
                <a:moveTo>
                  <a:pt x="395" y="3"/>
                </a:moveTo>
                <a:lnTo>
                  <a:pt x="932" y="915"/>
                </a:lnTo>
                <a:lnTo>
                  <a:pt x="0" y="229"/>
                </a:lnTo>
                <a:lnTo>
                  <a:pt x="407" y="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54720" y="2616120"/>
            <a:ext cx="1500480" cy="1460520"/>
          </a:xfrm>
          <a:custGeom>
            <a:avLst/>
            <a:gdLst/>
            <a:ahLst/>
            <a:rect l="l" t="t" r="r" b="b"/>
            <a:pathLst>
              <a:path w="932" h="906">
                <a:moveTo>
                  <a:pt x="0" y="0"/>
                </a:moveTo>
                <a:lnTo>
                  <a:pt x="0" y="906"/>
                </a:lnTo>
                <a:lnTo>
                  <a:pt x="932" y="678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12000" y="2577960"/>
            <a:ext cx="1255680" cy="1479600"/>
          </a:xfrm>
          <a:custGeom>
            <a:avLst/>
            <a:gdLst/>
            <a:ahLst/>
            <a:rect l="l" t="t" r="r" b="b"/>
            <a:pathLst>
              <a:path w="791" h="932">
                <a:moveTo>
                  <a:pt x="791" y="0"/>
                </a:moveTo>
                <a:lnTo>
                  <a:pt x="780" y="932"/>
                </a:lnTo>
                <a:lnTo>
                  <a:pt x="0" y="483"/>
                </a:lnTo>
                <a:lnTo>
                  <a:pt x="788" y="8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2209680"/>
            <a:ext cx="838080" cy="1524240"/>
          </a:xfrm>
          <a:custGeom>
            <a:avLst/>
            <a:gdLst/>
            <a:ahLst/>
            <a:rect l="l" t="t" r="r" b="b"/>
            <a:pathLst>
              <a:path w="525" h="920">
                <a:moveTo>
                  <a:pt x="517" y="0"/>
                </a:moveTo>
                <a:lnTo>
                  <a:pt x="390" y="675"/>
                </a:lnTo>
                <a:lnTo>
                  <a:pt x="0" y="920"/>
                </a:lnTo>
                <a:lnTo>
                  <a:pt x="525" y="14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49960" y="3317760"/>
            <a:ext cx="825480" cy="1816200"/>
          </a:xfrm>
          <a:custGeom>
            <a:avLst/>
            <a:gdLst/>
            <a:ahLst/>
            <a:rect l="l" t="t" r="r" b="b"/>
            <a:pathLst>
              <a:path w="520" h="1144">
                <a:moveTo>
                  <a:pt x="0" y="246"/>
                </a:moveTo>
                <a:lnTo>
                  <a:pt x="401" y="0"/>
                </a:lnTo>
                <a:lnTo>
                  <a:pt x="520" y="1144"/>
                </a:lnTo>
                <a:lnTo>
                  <a:pt x="20" y="263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997600" y="3327480"/>
            <a:ext cx="1239840" cy="1819080"/>
          </a:xfrm>
          <a:custGeom>
            <a:avLst/>
            <a:gdLst/>
            <a:ahLst/>
            <a:rect l="l" t="t" r="r" b="b"/>
            <a:pathLst>
              <a:path w="781" h="1146">
                <a:moveTo>
                  <a:pt x="0" y="0"/>
                </a:moveTo>
                <a:lnTo>
                  <a:pt x="120" y="1146"/>
                </a:lnTo>
                <a:lnTo>
                  <a:pt x="781" y="469"/>
                </a:lnTo>
                <a:lnTo>
                  <a:pt x="1" y="1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88040" y="4102200"/>
            <a:ext cx="1676520" cy="1079280"/>
          </a:xfrm>
          <a:custGeom>
            <a:avLst/>
            <a:gdLst/>
            <a:ahLst/>
            <a:rect l="l" t="t" r="r" b="b"/>
            <a:pathLst>
              <a:path w="1017" h="686">
                <a:moveTo>
                  <a:pt x="0" y="686"/>
                </a:moveTo>
                <a:lnTo>
                  <a:pt x="644" y="0"/>
                </a:lnTo>
                <a:lnTo>
                  <a:pt x="1017" y="677"/>
                </a:lnTo>
                <a:lnTo>
                  <a:pt x="17" y="686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96040" y="3720960"/>
            <a:ext cx="1533600" cy="1440000"/>
          </a:xfrm>
          <a:custGeom>
            <a:avLst/>
            <a:gdLst/>
            <a:ahLst/>
            <a:rect l="l" t="t" r="r" b="b"/>
            <a:pathLst>
              <a:path w="966" h="907">
                <a:moveTo>
                  <a:pt x="26" y="238"/>
                </a:moveTo>
                <a:lnTo>
                  <a:pt x="415" y="907"/>
                </a:lnTo>
                <a:lnTo>
                  <a:pt x="966" y="0"/>
                </a:lnTo>
                <a:lnTo>
                  <a:pt x="0" y="229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9000"/>
                            </p:stCondLst>
                            <p:childTnLst>
                              <p:par>
                                <p:cTn id="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8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8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10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7000"/>
                            </p:stCondLst>
                            <p:childTnLst>
                              <p:par>
                                <p:cTn id="8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2000"/>
                            </p:stCondLst>
                            <p:childTnLst>
                              <p:par>
                                <p:cTn id="8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4000"/>
                            </p:stCondLst>
                            <p:childTnLst>
                              <p:par>
                                <p:cTn id="8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6000"/>
                            </p:stCondLst>
                            <p:childTnLst>
                              <p:par>
                                <p:cTn id="8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8000"/>
                            </p:stCondLst>
                            <p:childTnLst>
                              <p:par>
                                <p:cTn id="8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8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2000"/>
                            </p:stCondLst>
                            <p:childTnLst>
                              <p:par>
                                <p:cTn id="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4000"/>
                            </p:stCondLst>
                            <p:childTnLst>
                              <p:par>
                                <p:cTn id="8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6000"/>
                            </p:stCondLst>
                            <p:childTnLst>
                              <p:par>
                                <p:cTn id="8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68000"/>
                            </p:stCondLst>
                            <p:childTnLst>
                              <p:par>
                                <p:cTn id="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0000"/>
                            </p:stCondLst>
                            <p:childTnLst>
                              <p:par>
                                <p:cTn id="8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-1800" y="447840"/>
            <a:ext cx="911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ÀI TẬP VỀ N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ọc định nghĩa, định 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 sát các khối đa diên đều để hiểu định nghĩa và định l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ài 1 đến bài 4 trang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rId2" action="ppaction://hlinksldjump"/>
          </p:cNvPr>
          <p:cNvSpPr/>
          <p:nvPr/>
        </p:nvSpPr>
        <p:spPr>
          <a:xfrm>
            <a:off x="698400" y="62485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3199680" y="6248520"/>
            <a:ext cx="21895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ết thúc bài họ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6280" y="152280"/>
            <a:ext cx="839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gi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 tứ diện đều ABCD, cạnh 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ọi I,J,E,F,M và N lần lượt trung điểm của các cạnh AC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D, AB,BC,CD và 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1840" y="205740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Áp dụng tính chất đường trung bình của các tam giác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các mặt của tứ diện đều nên độ dài của tám tamgiác IE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M,IMN,INE,JEF,JFM,JM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đều bằng a/2 =&gt;chúng là tá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m giác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560" y="3884400"/>
            <a:ext cx="850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*)Hơn nữa tám tam giác đều nói trên tạ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ành một đa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ó các đỉnh I,J,E,F,M,N mà mỗi đỉnh là đỉnh chung c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úng bốn tam giác đề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5280" y="5378040"/>
            <a:ext cx="657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Do đó đa diện ấy là đa diện đều loại {3;4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ức là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0372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hình v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37560" y="6400800"/>
            <a:ext cx="173232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giải câ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880" y="609120"/>
            <a:ext cx="858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Chứng minh AB’CD’ là một tứ diện đều.Tính các cạ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ủa nó theo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9120" y="1752480"/>
            <a:ext cx="828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Gọi I,J,E,F,M và N lần lượt là tâmcủa các mặt ABC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’B’C’D’ ,  ABB’A’,BCC’B’,CDD’C’ và DAA’D’ c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ình lập phư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" y="3352320"/>
            <a:ext cx="916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)Để ý rằng 6 điểm trên cùng lầnlượt là trung điểm của c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ạnh AC, B’D’,AB’,B’C’CD’và D’A của tứ diện đều AB’C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4080" y="463860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&gt; Theo câu a) sáu điểm đó là các đỉnh của một bát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640080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9040" y="6477120"/>
            <a:ext cx="2513880" cy="459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24480" y="76320"/>
            <a:ext cx="163152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g ch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211880" y="76212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7211880" y="144792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4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7211880" y="20574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7211880" y="27432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5;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7211880" y="3429000"/>
            <a:ext cx="1778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{3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56840" y="3962520"/>
            <a:ext cx="3132720" cy="9471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ình ảnh (Cabri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8200" y="228600"/>
            <a:ext cx="1553760" cy="520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h h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880" y="1711440"/>
            <a:ext cx="3733920" cy="520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KHỐI ĐA DIỆN L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389880" y="2514600"/>
            <a:ext cx="3777480" cy="520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-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096520" y="5029200"/>
            <a:ext cx="38930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ối đa diện lồi ( 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9" action="ppaction://hlinksldjump"/>
          </p:cNvPr>
          <p:cNvSpPr/>
          <p:nvPr/>
        </p:nvSpPr>
        <p:spPr>
          <a:xfrm>
            <a:off x="5031720" y="5576760"/>
            <a:ext cx="395100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ối đa diện lồi ( 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5067720" y="6186600"/>
            <a:ext cx="392364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không là khối đa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1" action="ppaction://hlinksldjump"/>
          </p:cNvPr>
          <p:cNvSpPr/>
          <p:nvPr/>
        </p:nvSpPr>
        <p:spPr>
          <a:xfrm>
            <a:off x="457200" y="5119560"/>
            <a:ext cx="419112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 dụ về bát đ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2" action="ppaction://hlinksldjump"/>
          </p:cNvPr>
          <p:cNvSpPr/>
          <p:nvPr/>
        </p:nvSpPr>
        <p:spPr>
          <a:xfrm>
            <a:off x="465120" y="3747960"/>
            <a:ext cx="418320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ác loại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3" action="ppaction://hlinksldjump"/>
          </p:cNvPr>
          <p:cNvSpPr/>
          <p:nvPr/>
        </p:nvSpPr>
        <p:spPr>
          <a:xfrm>
            <a:off x="457920" y="4433760"/>
            <a:ext cx="416736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óm tắt về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91720" y="22860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00200"/>
            <a:ext cx="3498480" cy="520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ội dung chính của b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124080"/>
            <a:ext cx="4191120" cy="52056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ịnh nghĩ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6360" y="6324480"/>
            <a:ext cx="2513880" cy="459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ướng dẫn học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75000" y="154152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08400" y="1487520"/>
            <a:ext cx="2514600" cy="2819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4307040"/>
            <a:ext cx="3271680" cy="85068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70320" y="1487520"/>
            <a:ext cx="3352680" cy="3670200"/>
            <a:chOff x="2470320" y="1487520"/>
            <a:chExt cx="3352680" cy="3670200"/>
          </a:xfrm>
        </p:grpSpPr>
        <p:sp>
          <p:nvSpPr>
            <p:cNvPr id="70" name=""/>
            <p:cNvSpPr/>
            <p:nvPr/>
          </p:nvSpPr>
          <p:spPr>
            <a:xfrm>
              <a:off x="2470320" y="1500120"/>
              <a:ext cx="3352680" cy="3657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08400" y="430668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495880" y="4306680"/>
              <a:ext cx="838080" cy="838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1360" y="1487520"/>
              <a:ext cx="0" cy="281916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984920" y="1554120"/>
            <a:ext cx="833400" cy="3603600"/>
          </a:xfrm>
          <a:custGeom>
            <a:avLst/>
            <a:gdLst/>
            <a:ahLst/>
            <a:rect l="l" t="t" r="r" b="b"/>
            <a:pathLst>
              <a:path w="525" h="2270">
                <a:moveTo>
                  <a:pt x="0" y="528"/>
                </a:moveTo>
                <a:lnTo>
                  <a:pt x="525" y="0"/>
                </a:lnTo>
                <a:lnTo>
                  <a:pt x="517" y="1762"/>
                </a:lnTo>
                <a:lnTo>
                  <a:pt x="0" y="2270"/>
                </a:lnTo>
                <a:lnTo>
                  <a:pt x="8" y="517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059200" y="1066680"/>
            <a:ext cx="4066920" cy="4537080"/>
            <a:chOff x="2059200" y="1066680"/>
            <a:chExt cx="4066920" cy="4537080"/>
          </a:xfrm>
        </p:grpSpPr>
        <p:sp>
          <p:nvSpPr>
            <p:cNvPr id="76" name=""/>
            <p:cNvSpPr/>
            <p:nvPr/>
          </p:nvSpPr>
          <p:spPr>
            <a:xfrm>
              <a:off x="3218040" y="392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34080" y="1066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9200" y="2187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1800" y="1868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40480" y="110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3160" y="523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65760" y="5068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6800" y="4306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45200" y="2538360"/>
            <a:ext cx="1384560" cy="1425600"/>
            <a:chOff x="3445200" y="2538360"/>
            <a:chExt cx="1384560" cy="1425600"/>
          </a:xfrm>
        </p:grpSpPr>
        <p:sp>
          <p:nvSpPr>
            <p:cNvPr id="85" name=""/>
            <p:cNvSpPr/>
            <p:nvPr/>
          </p:nvSpPr>
          <p:spPr>
            <a:xfrm flipV="1">
              <a:off x="3747960" y="2842920"/>
              <a:ext cx="6091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45200" y="3443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93080" y="2538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081960" y="3200400"/>
            <a:ext cx="1748160" cy="1677960"/>
            <a:chOff x="3081960" y="3200400"/>
            <a:chExt cx="1748160" cy="1677960"/>
          </a:xfrm>
        </p:grpSpPr>
        <p:sp>
          <p:nvSpPr>
            <p:cNvPr id="89" name=""/>
            <p:cNvSpPr/>
            <p:nvPr/>
          </p:nvSpPr>
          <p:spPr>
            <a:xfrm flipV="1">
              <a:off x="3536640" y="3651480"/>
              <a:ext cx="941040" cy="8445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34040" y="3200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1960" y="435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99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438280" y="2325600"/>
            <a:ext cx="2514600" cy="2819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33680" y="1487520"/>
            <a:ext cx="3271680" cy="85104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04920"/>
            <a:ext cx="8305920" cy="91440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905120"/>
            <a:ext cx="1981080" cy="509400"/>
          </a:xfrm>
          <a:custGeom>
            <a:avLst/>
            <a:gdLst>
              <a:gd name="textAreaLeft" fmla="*/ 32760 w 1981080"/>
              <a:gd name="textAreaRight" fmla="*/ 1948320 w 198108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83959" h="21600">
                <a:moveTo>
                  <a:pt x="0" y="0"/>
                </a:moveTo>
                <a:lnTo>
                  <a:pt x="83959" y="0"/>
                </a:lnTo>
                <a:lnTo>
                  <a:pt x="83959" y="21600"/>
                </a:lnTo>
                <a:lnTo>
                  <a:pt x="0" y="21600"/>
                </a:lnTo>
                <a:close/>
              </a:path>
              <a:path fill="lightenLess" w="83959" h="21600">
                <a:moveTo>
                  <a:pt x="0" y="0"/>
                </a:moveTo>
                <a:lnTo>
                  <a:pt x="83959" y="0"/>
                </a:lnTo>
                <a:lnTo>
                  <a:pt x="82559" y="1400"/>
                </a:lnTo>
                <a:lnTo>
                  <a:pt x="1400" y="1400"/>
                </a:lnTo>
                <a:close/>
              </a:path>
              <a:path fill="darken" w="83959" h="21600">
                <a:moveTo>
                  <a:pt x="83959" y="0"/>
                </a:moveTo>
                <a:lnTo>
                  <a:pt x="83959" y="21600"/>
                </a:lnTo>
                <a:lnTo>
                  <a:pt x="82559" y="20200"/>
                </a:lnTo>
                <a:lnTo>
                  <a:pt x="82559" y="1400"/>
                </a:lnTo>
                <a:close/>
              </a:path>
              <a:path fill="darkenLess" w="83959" h="21600">
                <a:moveTo>
                  <a:pt x="83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9" y="20200"/>
                </a:lnTo>
                <a:close/>
              </a:path>
              <a:path fill="lighten" w="83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ở mặt ngo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5146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ện mặt ph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12408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p chuyển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12139E-006 L 0.00417 -0.13318 E">
                                      <p:cBhvr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5723E-006 L -0.32084 -0.00023 E">
                                      <p:cBhvr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7769 L 0.00417 0.16648 E">
                                      <p:cBhvr>
                                        <p:cTn id="15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28600" y="3657600"/>
            <a:ext cx="8305920" cy="990720"/>
          </a:xfrm>
          <a:custGeom>
            <a:avLst/>
            <a:gdLst/>
            <a:ahLst/>
            <a:rect l="l" t="t" r="r" b="b"/>
            <a:pathLst>
              <a:path w="2109" h="542">
                <a:moveTo>
                  <a:pt x="0" y="542"/>
                </a:moveTo>
                <a:lnTo>
                  <a:pt x="1567" y="542"/>
                </a:lnTo>
                <a:lnTo>
                  <a:pt x="2109" y="8"/>
                </a:lnTo>
                <a:lnTo>
                  <a:pt x="525" y="0"/>
                </a:lnTo>
                <a:lnTo>
                  <a:pt x="0" y="525"/>
                </a:lnTo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363600"/>
            <a:ext cx="3853080" cy="2455920"/>
          </a:xfrm>
          <a:custGeom>
            <a:avLst/>
            <a:gdLst/>
            <a:ahLst/>
            <a:rect l="l" t="t" r="r" b="b"/>
            <a:pathLst>
              <a:path w="2427" h="1547">
                <a:moveTo>
                  <a:pt x="0" y="1547"/>
                </a:moveTo>
                <a:lnTo>
                  <a:pt x="2427" y="1536"/>
                </a:lnTo>
                <a:lnTo>
                  <a:pt x="1056" y="0"/>
                </a:lnTo>
                <a:lnTo>
                  <a:pt x="5" y="1536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31840" y="2819520"/>
            <a:ext cx="3730680" cy="739800"/>
          </a:xfrm>
          <a:custGeom>
            <a:avLst/>
            <a:gdLst/>
            <a:ahLst/>
            <a:rect l="l" t="t" r="r" b="b"/>
            <a:pathLst>
              <a:path w="2350" h="466">
                <a:moveTo>
                  <a:pt x="16" y="2"/>
                </a:moveTo>
                <a:lnTo>
                  <a:pt x="2350" y="0"/>
                </a:lnTo>
                <a:lnTo>
                  <a:pt x="923" y="466"/>
                </a:lnTo>
                <a:lnTo>
                  <a:pt x="0" y="9"/>
                </a:lnTo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80720" y="380880"/>
            <a:ext cx="3886560" cy="3200400"/>
            <a:chOff x="1980720" y="380880"/>
            <a:chExt cx="3886560" cy="3200400"/>
          </a:xfrm>
        </p:grpSpPr>
        <p:sp>
          <p:nvSpPr>
            <p:cNvPr id="103" name=""/>
            <p:cNvSpPr/>
            <p:nvPr/>
          </p:nvSpPr>
          <p:spPr>
            <a:xfrm>
              <a:off x="1981080" y="281952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04960" y="2819520"/>
              <a:ext cx="236196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2819520"/>
              <a:ext cx="152424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80720" y="380880"/>
              <a:ext cx="167652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380880"/>
              <a:ext cx="2209680" cy="243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504960" y="380880"/>
              <a:ext cx="15228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360360"/>
            <a:ext cx="2352600" cy="3220920"/>
          </a:xfrm>
          <a:custGeom>
            <a:avLst/>
            <a:gdLst/>
            <a:ahLst/>
            <a:rect l="l" t="t" r="r" b="b"/>
            <a:pathLst>
              <a:path w="1482" h="2029">
                <a:moveTo>
                  <a:pt x="5" y="2027"/>
                </a:moveTo>
                <a:lnTo>
                  <a:pt x="1482" y="1545"/>
                </a:lnTo>
                <a:lnTo>
                  <a:pt x="101" y="0"/>
                </a:lnTo>
                <a:lnTo>
                  <a:pt x="0" y="2029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3160" y="417600"/>
            <a:ext cx="1684440" cy="3163680"/>
          </a:xfrm>
          <a:custGeom>
            <a:avLst/>
            <a:gdLst/>
            <a:ahLst/>
            <a:rect l="l" t="t" r="r" b="b"/>
            <a:pathLst>
              <a:path w="1061" h="1993">
                <a:moveTo>
                  <a:pt x="5" y="1529"/>
                </a:moveTo>
                <a:lnTo>
                  <a:pt x="951" y="1993"/>
                </a:lnTo>
                <a:lnTo>
                  <a:pt x="1061" y="0"/>
                </a:lnTo>
                <a:lnTo>
                  <a:pt x="0" y="152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2956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0" y="76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56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3388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228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838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14479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ện mặt ph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0574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p chuyển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0867E-006 L 0.00416 -0.12763 E">
                                      <p:cBhvr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8480" y="83808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L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3000" y="1371240"/>
            <a:ext cx="90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( H ) được gọi là khối đa diện lồi nếu đoạn th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ối hai điểm bất kì của (H) luôn thuộc (H).Khi đó đa diện x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(H) được gọi là đa diện lồ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320" y="2744640"/>
            <a:ext cx="718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í d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ác khối lăng trụ tam giác, khối hộp, khối tứ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những khối đa diện lồ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" y="4038480"/>
            <a:ext cx="895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ười ta chứng minh được rằng một khối đa diện được g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khối đa diện lồi khi và chỉ khi miền trong của nó luôn nằ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ề một phía đối với mỗi mặt của n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xem minh họa hình 1.18 tr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5638680" y="60706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440" y="1296000"/>
            <a:ext cx="927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 là khối đa diện lồi có tính chất sau đâ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Mỗi mặt của nó là một đa giác đều ba cạ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Mỗi đỉnh của nó là đỉnh chung của đúng q mặ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ối đa diện đều như vậy đều gọi là khối đa diện đều loại (p,q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ừ định nghĩa trên ta thấy các mặt của  một khối đa diện đề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à những đa giác đều bằng nh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560" y="1523880"/>
            <a:ext cx="891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ịnh l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ỉ có năm loại khối đa diện đề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Đó là loại {3;3},loại {4;3},loại{3;4}, loại {5;3} và loại {3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116760" y="631332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7800" y="295200"/>
            <a:ext cx="81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ài 2: KHỐI ĐA DIỆN LỒI VÀ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8380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8840" y="8380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- KHỐI ĐA DIỆN Đ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1600200"/>
            <a:ext cx="9190080" cy="3659040"/>
            <a:chOff x="228600" y="1600200"/>
            <a:chExt cx="9190080" cy="3659040"/>
          </a:xfrm>
        </p:grpSpPr>
        <p:sp>
          <p:nvSpPr>
            <p:cNvPr id="141" name=""/>
            <p:cNvSpPr/>
            <p:nvPr/>
          </p:nvSpPr>
          <p:spPr>
            <a:xfrm>
              <a:off x="228600" y="16002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25146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5257800"/>
              <a:ext cx="876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483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85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01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91720" y="1600200"/>
              <a:ext cx="0" cy="365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840" y="1666800"/>
              <a:ext cx="8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oạ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2080" y="1752480"/>
              <a:ext cx="12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ên gọ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15720" y="175248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ó đỉn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49880" y="1752480"/>
              <a:ext cx="13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ố cạn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9720" y="1752480"/>
              <a:ext cx="117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ố mặ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920" y="2581200"/>
              <a:ext cx="89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3}      Tứ diện đều                    4                6             4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720" y="3200400"/>
              <a:ext cx="890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4;3}      Lập phương                    8              12             6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480" y="3747960"/>
              <a:ext cx="88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4}      Bát diện đều                   6               12            8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4640" y="4281480"/>
              <a:ext cx="882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5;3}   Mười hai mặt đều             20             12            8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3200" y="4738680"/>
              <a:ext cx="88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{3;5}     Hai mươi mặt đều           12             30           20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629400" y="6324480"/>
            <a:ext cx="2425680" cy="4597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y về trang ch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0:46:05Z</dcterms:created>
  <dc:creator>Windows xp sp2 Full</dc:creator>
  <dc:description/>
  <dc:language>en-US</dc:language>
  <cp:lastModifiedBy>Windows xp sp2 Full</cp:lastModifiedBy>
  <dcterms:modified xsi:type="dcterms:W3CDTF">2008-07-31T01:06:38Z</dcterms:modified>
  <cp:revision>29</cp:revision>
  <dc:subject/>
  <dc:title>Slide 1</dc:title>
</cp:coreProperties>
</file>